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2.png" ContentType="image/pn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3A0-2551-48C1-A28A-A6E93F7F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48E-F889-410F-92DE-AD13D06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837-5072-4489-87B4-31154CF5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63C-0AAA-4C42-A3DD-1560B626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098-57C5-4F8C-8930-6D1B9D7D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DB4-7CF6-4159-974D-7254609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13A-18E4-4EDA-87E5-62C502D7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FAC-CFD9-4C22-91B0-34FA1C2A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1A0-A7ED-4864-88B3-8E9EE28E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39E-F802-4D15-90B2-7F18D3A8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7B7-4D7D-4816-AC4E-07C8DF5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116-F2A3-4708-8AC1-DABEC606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A9C-3894-48B4-834E-9195BC80948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359-FFD0-45DC-A31C-DCD90BCD4FF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0116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187280" y="2637000"/>
            <a:ext cx="70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简单机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4"/>
          <p:cNvSpPr/>
          <p:nvPr/>
        </p:nvSpPr>
        <p:spPr>
          <a:xfrm>
            <a:off x="576360" y="3122640"/>
            <a:ext cx="7956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解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8081f"/>
                </a:solidFill>
                <a:latin typeface="Times New Roman"/>
                <a:ea typeface="楷体"/>
              </a:rPr>
              <a:t>　　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应为整数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　　应用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动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两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定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滑轮组，绳子固定端在定滑轮下，最多能提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11280" y="836640"/>
            <a:ext cx="709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根绳子最多能承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拉力，要提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，应用什么样的滑轮组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重力不计要求向下拉且滑轮个数最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这个滑轮组最多能提起多重的物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3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3682800" cy="95220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47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1714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42" descr=""/>
          <p:cNvPicPr/>
          <p:nvPr/>
        </p:nvPicPr>
        <p:blipFill>
          <a:blip r:embed="rId3"/>
          <a:stretch/>
        </p:blipFill>
        <p:spPr>
          <a:xfrm>
            <a:off x="1908000" y="5734080"/>
            <a:ext cx="423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8"/>
          <p:cNvGrpSpPr/>
          <p:nvPr/>
        </p:nvGrpSpPr>
        <p:grpSpPr>
          <a:xfrm>
            <a:off x="7812000" y="1233360"/>
            <a:ext cx="1152360" cy="3347280"/>
            <a:chOff x="7812000" y="1233360"/>
            <a:chExt cx="1152360" cy="3347280"/>
          </a:xfrm>
        </p:grpSpPr>
        <p:sp>
          <p:nvSpPr>
            <p:cNvPr id="300" name="Line 3"/>
            <p:cNvSpPr/>
            <p:nvPr/>
          </p:nvSpPr>
          <p:spPr>
            <a:xfrm flipV="1">
              <a:off x="8806320" y="1609920"/>
              <a:ext cx="0" cy="20746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"/>
            <p:cNvSpPr/>
            <p:nvPr/>
          </p:nvSpPr>
          <p:spPr>
            <a:xfrm flipH="1">
              <a:off x="8119800" y="1610280"/>
              <a:ext cx="158400" cy="12733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 flipH="1">
              <a:off x="8384040" y="2317680"/>
              <a:ext cx="158400" cy="896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8700480" y="2034360"/>
              <a:ext cx="0" cy="1273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 flipH="1">
              <a:off x="8278200" y="2034360"/>
              <a:ext cx="105480" cy="1650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9"/>
            <p:cNvGrpSpPr/>
            <p:nvPr/>
          </p:nvGrpSpPr>
          <p:grpSpPr>
            <a:xfrm>
              <a:off x="8278560" y="2977560"/>
              <a:ext cx="527760" cy="1603080"/>
              <a:chOff x="8278560" y="2977560"/>
              <a:chExt cx="527760" cy="1603080"/>
            </a:xfrm>
          </p:grpSpPr>
          <p:grpSp>
            <p:nvGrpSpPr>
              <p:cNvPr id="306" name="Group 8"/>
              <p:cNvGrpSpPr/>
              <p:nvPr/>
            </p:nvGrpSpPr>
            <p:grpSpPr>
              <a:xfrm>
                <a:off x="8331120" y="4061520"/>
                <a:ext cx="369000" cy="519120"/>
                <a:chOff x="8331120" y="4061520"/>
                <a:chExt cx="369000" cy="519120"/>
              </a:xfrm>
            </p:grpSpPr>
            <p:sp>
              <p:nvSpPr>
                <p:cNvPr id="307" name="Rectangle 9"/>
                <p:cNvSpPr/>
                <p:nvPr/>
              </p:nvSpPr>
              <p:spPr>
                <a:xfrm>
                  <a:off x="8331120" y="4165200"/>
                  <a:ext cx="369000" cy="415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0"/>
                <p:cNvSpPr/>
                <p:nvPr/>
              </p:nvSpPr>
              <p:spPr>
                <a:xfrm>
                  <a:off x="8515440" y="4061520"/>
                  <a:ext cx="0" cy="103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9"/>
              <p:cNvGrpSpPr/>
              <p:nvPr/>
            </p:nvGrpSpPr>
            <p:grpSpPr>
              <a:xfrm>
                <a:off x="8278560" y="2977560"/>
                <a:ext cx="527760" cy="1103040"/>
                <a:chOff x="8278560" y="2977560"/>
                <a:chExt cx="527760" cy="1103040"/>
              </a:xfrm>
            </p:grpSpPr>
            <p:sp>
              <p:nvSpPr>
                <p:cNvPr id="310" name="Oval 12"/>
                <p:cNvSpPr/>
                <p:nvPr/>
              </p:nvSpPr>
              <p:spPr>
                <a:xfrm>
                  <a:off x="8384040" y="3118320"/>
                  <a:ext cx="31608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3"/>
                <p:cNvSpPr/>
                <p:nvPr/>
              </p:nvSpPr>
              <p:spPr>
                <a:xfrm>
                  <a:off x="8278560" y="3449520"/>
                  <a:ext cx="52776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4"/>
                <p:cNvSpPr/>
                <p:nvPr/>
              </p:nvSpPr>
              <p:spPr>
                <a:xfrm>
                  <a:off x="8518680" y="307152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5"/>
                <p:cNvSpPr/>
                <p:nvPr/>
              </p:nvSpPr>
              <p:spPr>
                <a:xfrm rot="10800000">
                  <a:off x="8489880" y="401940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16"/>
                <p:cNvSpPr/>
                <p:nvPr/>
              </p:nvSpPr>
              <p:spPr>
                <a:xfrm rot="10800000">
                  <a:off x="8530920" y="400860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7"/>
                <p:cNvSpPr/>
                <p:nvPr/>
              </p:nvSpPr>
              <p:spPr>
                <a:xfrm flipV="1">
                  <a:off x="8532000" y="3967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8"/>
                <p:cNvSpPr/>
                <p:nvPr/>
              </p:nvSpPr>
              <p:spPr>
                <a:xfrm>
                  <a:off x="8521200" y="2977560"/>
                  <a:ext cx="7308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9"/>
                <p:cNvSpPr/>
                <p:nvPr/>
              </p:nvSpPr>
              <p:spPr>
                <a:xfrm>
                  <a:off x="8489880" y="299772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0"/>
                <p:cNvSpPr/>
                <p:nvPr/>
              </p:nvSpPr>
              <p:spPr>
                <a:xfrm>
                  <a:off x="8553960" y="30387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1"/>
                <p:cNvSpPr/>
                <p:nvPr/>
              </p:nvSpPr>
              <p:spPr>
                <a:xfrm>
                  <a:off x="8521200" y="367488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2"/>
                <p:cNvSpPr/>
                <p:nvPr/>
              </p:nvSpPr>
              <p:spPr>
                <a:xfrm>
                  <a:off x="8521200" y="3248640"/>
                  <a:ext cx="4212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48"/>
            <p:cNvGrpSpPr/>
            <p:nvPr/>
          </p:nvGrpSpPr>
          <p:grpSpPr>
            <a:xfrm>
              <a:off x="8119800" y="1233360"/>
              <a:ext cx="844560" cy="1167120"/>
              <a:chOff x="8119800" y="1233360"/>
              <a:chExt cx="844560" cy="1167120"/>
            </a:xfrm>
          </p:grpSpPr>
          <p:sp>
            <p:nvSpPr>
              <p:cNvPr id="322" name="Line 23"/>
              <p:cNvSpPr/>
              <p:nvPr/>
            </p:nvSpPr>
            <p:spPr>
              <a:xfrm>
                <a:off x="8119800" y="1233360"/>
                <a:ext cx="84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40"/>
              <p:cNvGrpSpPr/>
              <p:nvPr/>
            </p:nvGrpSpPr>
            <p:grpSpPr>
              <a:xfrm>
                <a:off x="8272800" y="1233360"/>
                <a:ext cx="527040" cy="1167120"/>
                <a:chOff x="8272800" y="1233360"/>
                <a:chExt cx="527040" cy="1167120"/>
              </a:xfrm>
            </p:grpSpPr>
            <p:sp>
              <p:nvSpPr>
                <p:cNvPr id="324" name="Line 25"/>
                <p:cNvSpPr/>
                <p:nvPr/>
              </p:nvSpPr>
              <p:spPr>
                <a:xfrm>
                  <a:off x="8551800" y="240048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26"/>
                <p:cNvSpPr/>
                <p:nvPr/>
              </p:nvSpPr>
              <p:spPr>
                <a:xfrm flipV="1">
                  <a:off x="8379720" y="1912680"/>
                  <a:ext cx="315720" cy="2829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27"/>
                <p:cNvSpPr/>
                <p:nvPr/>
              </p:nvSpPr>
              <p:spPr>
                <a:xfrm flipV="1">
                  <a:off x="8272800" y="1393560"/>
                  <a:ext cx="527040" cy="47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8"/>
                <p:cNvSpPr/>
                <p:nvPr/>
              </p:nvSpPr>
              <p:spPr>
                <a:xfrm flipV="1">
                  <a:off x="8502840" y="1345680"/>
                  <a:ext cx="62280" cy="89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9"/>
                <p:cNvSpPr/>
                <p:nvPr/>
              </p:nvSpPr>
              <p:spPr>
                <a:xfrm flipV="1" rot="10800000">
                  <a:off x="8489160" y="1233360"/>
                  <a:ext cx="73440" cy="6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30"/>
                <p:cNvSpPr/>
                <p:nvPr/>
              </p:nvSpPr>
              <p:spPr>
                <a:xfrm flipV="1" rot="10800000">
                  <a:off x="8530200" y="1253520"/>
                  <a:ext cx="6336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31"/>
                <p:cNvSpPr/>
                <p:nvPr/>
              </p:nvSpPr>
              <p:spPr>
                <a:xfrm>
                  <a:off x="8531280" y="12945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2"/>
                <p:cNvSpPr/>
                <p:nvPr/>
              </p:nvSpPr>
              <p:spPr>
                <a:xfrm flipV="1">
                  <a:off x="8520480" y="2274480"/>
                  <a:ext cx="73080" cy="60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33"/>
                <p:cNvSpPr/>
                <p:nvPr/>
              </p:nvSpPr>
              <p:spPr>
                <a:xfrm flipV="1">
                  <a:off x="8489160" y="2264400"/>
                  <a:ext cx="63720" cy="51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34"/>
                <p:cNvSpPr/>
                <p:nvPr/>
              </p:nvSpPr>
              <p:spPr>
                <a:xfrm flipV="1">
                  <a:off x="8553240" y="2223360"/>
                  <a:ext cx="0" cy="5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35"/>
                <p:cNvSpPr/>
                <p:nvPr/>
              </p:nvSpPr>
              <p:spPr>
                <a:xfrm flipV="1">
                  <a:off x="8502840" y="1636560"/>
                  <a:ext cx="41760" cy="1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36"/>
                <p:cNvSpPr/>
                <p:nvPr/>
              </p:nvSpPr>
              <p:spPr>
                <a:xfrm flipV="1">
                  <a:off x="8502840" y="2035440"/>
                  <a:ext cx="3780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 rot="10800000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Text Box 37"/>
            <p:cNvSpPr/>
            <p:nvPr/>
          </p:nvSpPr>
          <p:spPr>
            <a:xfrm>
              <a:off x="7812000" y="2702880"/>
              <a:ext cx="6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楷体"/>
                </a:rPr>
                <a:t>F</a:t>
              </a:r>
              <a:r>
                <a:rPr b="1" i="1" lang="en-US" sz="4000" spc="-1" strike="noStrike">
                  <a:solidFill>
                    <a:srgbClr val="ed7d31"/>
                  </a:solidFill>
                  <a:latin typeface="Times New Roman"/>
                  <a:ea typeface="楷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647640" y="944640"/>
            <a:ext cx="482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、机械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7"/>
          <p:cNvSpPr/>
          <p:nvPr/>
        </p:nvSpPr>
        <p:spPr>
          <a:xfrm>
            <a:off x="900000" y="2023920"/>
            <a:ext cx="7488360" cy="363708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25560">
            <a:solidFill>
              <a:srgbClr val="3d8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机械效率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用功跟总功的比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百分数表示，总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ject 5" descr=""/>
          <p:cNvPicPr/>
          <p:nvPr/>
        </p:nvPicPr>
        <p:blipFill>
          <a:blip r:embed="rId1"/>
          <a:stretch/>
        </p:blipFill>
        <p:spPr>
          <a:xfrm>
            <a:off x="2916360" y="3578400"/>
            <a:ext cx="1260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47640" y="692280"/>
            <a:ext cx="715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滑轮组的机械效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2" descr=""/>
          <p:cNvPicPr/>
          <p:nvPr/>
        </p:nvPicPr>
        <p:blipFill>
          <a:blip r:embed="rId1"/>
          <a:stretch/>
        </p:blipFill>
        <p:spPr>
          <a:xfrm>
            <a:off x="2951280" y="1341360"/>
            <a:ext cx="2205000" cy="1192320"/>
          </a:xfrm>
          <a:prstGeom prst="rect">
            <a:avLst/>
          </a:prstGeom>
          <a:ln w="0">
            <a:noFill/>
          </a:ln>
        </p:spPr>
      </p:pic>
      <p:sp>
        <p:nvSpPr>
          <p:cNvPr id="342" name="矩形 4"/>
          <p:cNvSpPr/>
          <p:nvPr/>
        </p:nvSpPr>
        <p:spPr>
          <a:xfrm>
            <a:off x="647640" y="1665360"/>
            <a:ext cx="194472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实验原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826920" y="4425840"/>
            <a:ext cx="7704360" cy="140076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滑轮组的机械效率与滑轮轴摩擦、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、物重有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动滑轮重一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微软雅黑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越大，机械效率越高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物重一定，动滑轮越重，机械效率越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01640" y="2430360"/>
            <a:ext cx="7561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测量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公式计算中间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h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2"/>
          <a:stretch/>
        </p:blipFill>
        <p:spPr>
          <a:xfrm>
            <a:off x="3348000" y="3351240"/>
            <a:ext cx="1306440" cy="11574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1269720" y="3635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械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Object 2" descr=""/>
          <p:cNvPicPr/>
          <p:nvPr/>
        </p:nvPicPr>
        <p:blipFill>
          <a:blip r:embed="rId1"/>
          <a:stretch/>
        </p:blipFill>
        <p:spPr>
          <a:xfrm>
            <a:off x="4859280" y="1881360"/>
            <a:ext cx="3137040" cy="1077840"/>
          </a:xfrm>
          <a:prstGeom prst="rect">
            <a:avLst/>
          </a:prstGeom>
          <a:ln w="0">
            <a:noFill/>
          </a:ln>
        </p:spPr>
      </p:pic>
      <p:pic>
        <p:nvPicPr>
          <p:cNvPr id="348" name="Object 3" descr=""/>
          <p:cNvPicPr/>
          <p:nvPr/>
        </p:nvPicPr>
        <p:blipFill>
          <a:blip r:embed="rId2"/>
          <a:stretch/>
        </p:blipFill>
        <p:spPr>
          <a:xfrm>
            <a:off x="934920" y="4471920"/>
            <a:ext cx="4367160" cy="9781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4"/>
          <p:cNvGrpSpPr/>
          <p:nvPr/>
        </p:nvGrpSpPr>
        <p:grpSpPr>
          <a:xfrm>
            <a:off x="6408720" y="2960640"/>
            <a:ext cx="1776600" cy="3222360"/>
            <a:chOff x="6408720" y="2960640"/>
            <a:chExt cx="1776600" cy="3222360"/>
          </a:xfrm>
        </p:grpSpPr>
        <p:pic>
          <p:nvPicPr>
            <p:cNvPr id="350" name="Picture 5" descr=""/>
            <p:cNvPicPr/>
            <p:nvPr/>
          </p:nvPicPr>
          <p:blipFill>
            <a:blip r:embed="rId3"/>
            <a:stretch/>
          </p:blipFill>
          <p:spPr>
            <a:xfrm>
              <a:off x="6408720" y="2960640"/>
              <a:ext cx="1776600" cy="32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6"/>
            <p:cNvSpPr/>
            <p:nvPr/>
          </p:nvSpPr>
          <p:spPr>
            <a:xfrm>
              <a:off x="7310880" y="4868640"/>
              <a:ext cx="535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1800" spc="-1" strike="noStrike" baseline="-25000">
                  <a:solidFill>
                    <a:srgbClr val="000000"/>
                  </a:solidFill>
                  <a:latin typeface="宋体"/>
                </a:rPr>
                <a:t>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7272360" y="5047920"/>
              <a:ext cx="730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8"/>
            <p:cNvSpPr/>
            <p:nvPr/>
          </p:nvSpPr>
          <p:spPr>
            <a:xfrm>
              <a:off x="6734520" y="3500280"/>
              <a:ext cx="383400" cy="45972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 flipH="1" flipV="1">
              <a:off x="7020000" y="3895200"/>
              <a:ext cx="10800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0"/>
          <p:cNvGrpSpPr/>
          <p:nvPr/>
        </p:nvGrpSpPr>
        <p:grpSpPr>
          <a:xfrm>
            <a:off x="755640" y="1952640"/>
            <a:ext cx="3851280" cy="1549440"/>
            <a:chOff x="755640" y="1952640"/>
            <a:chExt cx="3851280" cy="1549440"/>
          </a:xfrm>
        </p:grpSpPr>
        <p:sp>
          <p:nvSpPr>
            <p:cNvPr id="356" name="Rectangle 11"/>
            <p:cNvSpPr/>
            <p:nvPr/>
          </p:nvSpPr>
          <p:spPr>
            <a:xfrm>
              <a:off x="755640" y="1952640"/>
              <a:ext cx="3851280" cy="15494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2"/>
            <p:cNvGrpSpPr/>
            <p:nvPr/>
          </p:nvGrpSpPr>
          <p:grpSpPr>
            <a:xfrm>
              <a:off x="934920" y="2133720"/>
              <a:ext cx="3456000" cy="1078920"/>
              <a:chOff x="934920" y="2133720"/>
              <a:chExt cx="3456000" cy="1078920"/>
            </a:xfrm>
          </p:grpSpPr>
          <p:pic>
            <p:nvPicPr>
              <p:cNvPr id="358" name="图片 21" descr="未标题-18"/>
              <p:cNvPicPr/>
              <p:nvPr/>
            </p:nvPicPr>
            <p:blipFill>
              <a:blip r:embed="rId4"/>
              <a:srcRect l="2539" t="20499" r="3875" b="12310"/>
              <a:stretch/>
            </p:blipFill>
            <p:spPr>
              <a:xfrm>
                <a:off x="934920" y="2323080"/>
                <a:ext cx="345600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Line 14"/>
              <p:cNvSpPr/>
              <p:nvPr/>
            </p:nvSpPr>
            <p:spPr>
              <a:xfrm flipV="1">
                <a:off x="1568160" y="2923920"/>
                <a:ext cx="136008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5"/>
              <p:cNvSpPr/>
              <p:nvPr/>
            </p:nvSpPr>
            <p:spPr>
              <a:xfrm flipV="1">
                <a:off x="1979640" y="2607120"/>
                <a:ext cx="885600" cy="3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6"/>
              <p:cNvSpPr/>
              <p:nvPr/>
            </p:nvSpPr>
            <p:spPr>
              <a:xfrm flipV="1">
                <a:off x="1947600" y="2766240"/>
                <a:ext cx="569520" cy="15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7"/>
              <p:cNvSpPr/>
              <p:nvPr/>
            </p:nvSpPr>
            <p:spPr>
              <a:xfrm>
                <a:off x="2273400" y="2133720"/>
                <a:ext cx="38340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8"/>
              <p:cNvSpPr/>
              <p:nvPr/>
            </p:nvSpPr>
            <p:spPr>
              <a:xfrm flipV="1">
                <a:off x="1504080" y="2480760"/>
                <a:ext cx="8229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Text Box 19"/>
          <p:cNvSpPr/>
          <p:nvPr/>
        </p:nvSpPr>
        <p:spPr>
          <a:xfrm>
            <a:off x="755640" y="116064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971640" y="836640"/>
            <a:ext cx="418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95280" y="1557360"/>
            <a:ext cx="8496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农村用来舂米的工具是一个杠杆，下图是它的结构示意图。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固定转轴，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连接着石球，脚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可以使石球升高，抬起脚，石球会落下击打稻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若石球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 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要将石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抬起，脚至少用多大竖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向下的力？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摩擦和杠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自重均忽略不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368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369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0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50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529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11280" y="1160640"/>
            <a:ext cx="784836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杠杆由图中位置到水平位置的过程中，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611280" y="2384280"/>
            <a:ext cx="2606760" cy="2665080"/>
            <a:chOff x="611280" y="2384280"/>
            <a:chExt cx="2606760" cy="2665080"/>
          </a:xfrm>
        </p:grpSpPr>
        <p:pic>
          <p:nvPicPr>
            <p:cNvPr id="377" name="Picture 4" descr=""/>
            <p:cNvPicPr/>
            <p:nvPr/>
          </p:nvPicPr>
          <p:blipFill>
            <a:blip r:embed="rId1"/>
            <a:stretch/>
          </p:blipFill>
          <p:spPr>
            <a:xfrm>
              <a:off x="611280" y="2384280"/>
              <a:ext cx="242064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5"/>
            <p:cNvSpPr/>
            <p:nvPr/>
          </p:nvSpPr>
          <p:spPr>
            <a:xfrm>
              <a:off x="611280" y="4549680"/>
              <a:ext cx="2606760" cy="49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始终与杠杆垂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"/>
          <p:cNvGrpSpPr/>
          <p:nvPr/>
        </p:nvGrpSpPr>
        <p:grpSpPr>
          <a:xfrm>
            <a:off x="3132000" y="2421000"/>
            <a:ext cx="2829240" cy="2592000"/>
            <a:chOff x="3132000" y="2421000"/>
            <a:chExt cx="2829240" cy="2592000"/>
          </a:xfrm>
        </p:grpSpPr>
        <p:pic>
          <p:nvPicPr>
            <p:cNvPr id="380" name="Picture 7" descr=""/>
            <p:cNvPicPr/>
            <p:nvPr/>
          </p:nvPicPr>
          <p:blipFill>
            <a:blip r:embed="rId2"/>
            <a:stretch/>
          </p:blipFill>
          <p:spPr>
            <a:xfrm>
              <a:off x="3132000" y="2421000"/>
              <a:ext cx="245196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8"/>
            <p:cNvSpPr/>
            <p:nvPr/>
          </p:nvSpPr>
          <p:spPr>
            <a:xfrm>
              <a:off x="3320640" y="4527000"/>
              <a:ext cx="264060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水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9"/>
          <p:cNvGrpSpPr/>
          <p:nvPr/>
        </p:nvGrpSpPr>
        <p:grpSpPr>
          <a:xfrm>
            <a:off x="6012000" y="2384280"/>
            <a:ext cx="2700360" cy="2592360"/>
            <a:chOff x="6012000" y="2384280"/>
            <a:chExt cx="2700360" cy="2592360"/>
          </a:xfrm>
        </p:grpSpPr>
        <p:pic>
          <p:nvPicPr>
            <p:cNvPr id="383" name="Picture 10" descr=""/>
            <p:cNvPicPr/>
            <p:nvPr/>
          </p:nvPicPr>
          <p:blipFill>
            <a:blip r:embed="rId3"/>
            <a:srcRect l="0" t="0" r="-2704" b="16687"/>
            <a:stretch/>
          </p:blipFill>
          <p:spPr>
            <a:xfrm>
              <a:off x="6012000" y="2384280"/>
              <a:ext cx="21589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1"/>
            <p:cNvSpPr/>
            <p:nvPr/>
          </p:nvSpPr>
          <p:spPr>
            <a:xfrm>
              <a:off x="6084720" y="4491000"/>
              <a:ext cx="26276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始终竖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68360" y="973080"/>
            <a:ext cx="81360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质量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在水平桌面上，利用下图装置使物体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速度做匀速直线运动，弹簧测力计始终保持水平，其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计绳子的伸长和滑轮组内部的摩擦，则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作用在绳端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水平桌面对物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摩擦力是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拉力作用点移动＿＿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933560" y="4770360"/>
            <a:ext cx="5491080" cy="1440000"/>
            <a:chOff x="1933560" y="4770360"/>
            <a:chExt cx="5491080" cy="1440000"/>
          </a:xfrm>
        </p:grpSpPr>
        <p:sp>
          <p:nvSpPr>
            <p:cNvPr id="387" name="Rectangle 4"/>
            <p:cNvSpPr/>
            <p:nvPr/>
          </p:nvSpPr>
          <p:spPr>
            <a:xfrm>
              <a:off x="1933560" y="4770360"/>
              <a:ext cx="5491080" cy="144000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5"/>
            <p:cNvGrpSpPr/>
            <p:nvPr/>
          </p:nvGrpSpPr>
          <p:grpSpPr>
            <a:xfrm>
              <a:off x="2563560" y="4770360"/>
              <a:ext cx="4463640" cy="1297080"/>
              <a:chOff x="2563560" y="4770360"/>
              <a:chExt cx="4463640" cy="1297080"/>
            </a:xfrm>
          </p:grpSpPr>
          <p:grpSp>
            <p:nvGrpSpPr>
              <p:cNvPr id="389" name="Group 6"/>
              <p:cNvGrpSpPr/>
              <p:nvPr/>
            </p:nvGrpSpPr>
            <p:grpSpPr>
              <a:xfrm>
                <a:off x="4803480" y="5438880"/>
                <a:ext cx="263160" cy="155160"/>
                <a:chOff x="4803480" y="5438880"/>
                <a:chExt cx="263160" cy="155160"/>
              </a:xfrm>
            </p:grpSpPr>
            <p:sp>
              <p:nvSpPr>
                <p:cNvPr id="390" name="Oval 7"/>
                <p:cNvSpPr/>
                <p:nvPr/>
              </p:nvSpPr>
              <p:spPr>
                <a:xfrm flipH="1" rot="5400000">
                  <a:off x="4800240" y="5442120"/>
                  <a:ext cx="100080" cy="93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8"/>
                <p:cNvSpPr/>
                <p:nvPr/>
              </p:nvSpPr>
              <p:spPr>
                <a:xfrm flipH="1" rot="5400000">
                  <a:off x="4840560" y="5514840"/>
                  <a:ext cx="81720" cy="76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H="1">
                  <a:off x="4911480" y="5491800"/>
                  <a:ext cx="15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0"/>
              <p:cNvSpPr/>
              <p:nvPr/>
            </p:nvSpPr>
            <p:spPr>
              <a:xfrm>
                <a:off x="2611080" y="5999040"/>
                <a:ext cx="43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1"/>
              <p:cNvSpPr/>
              <p:nvPr/>
            </p:nvSpPr>
            <p:spPr>
              <a:xfrm>
                <a:off x="2687040" y="6067440"/>
                <a:ext cx="434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12"/>
              <p:cNvGrpSpPr/>
              <p:nvPr/>
            </p:nvGrpSpPr>
            <p:grpSpPr>
              <a:xfrm>
                <a:off x="4979520" y="5195880"/>
                <a:ext cx="1050120" cy="629640"/>
                <a:chOff x="4979520" y="5195880"/>
                <a:chExt cx="1050120" cy="629640"/>
              </a:xfrm>
            </p:grpSpPr>
            <p:grpSp>
              <p:nvGrpSpPr>
                <p:cNvPr id="396" name="Group 13"/>
                <p:cNvGrpSpPr/>
                <p:nvPr/>
              </p:nvGrpSpPr>
              <p:grpSpPr>
                <a:xfrm>
                  <a:off x="5638680" y="5474160"/>
                  <a:ext cx="261720" cy="155160"/>
                  <a:chOff x="5638680" y="5474160"/>
                  <a:chExt cx="261720" cy="155160"/>
                </a:xfrm>
              </p:grpSpPr>
              <p:sp>
                <p:nvSpPr>
                  <p:cNvPr id="397" name="Oval 14"/>
                  <p:cNvSpPr/>
                  <p:nvPr/>
                </p:nvSpPr>
                <p:spPr>
                  <a:xfrm rot="16200000">
                    <a:off x="5803560" y="5477400"/>
                    <a:ext cx="100080" cy="93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Rectangle 15"/>
                  <p:cNvSpPr/>
                  <p:nvPr/>
                </p:nvSpPr>
                <p:spPr>
                  <a:xfrm rot="16200000">
                    <a:off x="5781600" y="5550480"/>
                    <a:ext cx="817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16"/>
                  <p:cNvSpPr/>
                  <p:nvPr/>
                </p:nvSpPr>
                <p:spPr>
                  <a:xfrm>
                    <a:off x="5638680" y="5527440"/>
                    <a:ext cx="154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17"/>
                <p:cNvGrpSpPr/>
                <p:nvPr/>
              </p:nvGrpSpPr>
              <p:grpSpPr>
                <a:xfrm>
                  <a:off x="5083200" y="5195880"/>
                  <a:ext cx="591840" cy="629640"/>
                  <a:chOff x="5083200" y="5195880"/>
                  <a:chExt cx="591840" cy="629640"/>
                </a:xfrm>
              </p:grpSpPr>
              <p:sp>
                <p:nvSpPr>
                  <p:cNvPr id="401" name="Oval 18"/>
                  <p:cNvSpPr/>
                  <p:nvPr/>
                </p:nvSpPr>
                <p:spPr>
                  <a:xfrm flipH="1" rot="16200000">
                    <a:off x="5064120" y="5214600"/>
                    <a:ext cx="629640" cy="59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19"/>
                  <p:cNvSpPr/>
                  <p:nvPr/>
                </p:nvSpPr>
                <p:spPr>
                  <a:xfrm flipH="1" rot="16200000">
                    <a:off x="5124960" y="5271480"/>
                    <a:ext cx="505800" cy="47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Rectangle 20"/>
                <p:cNvSpPr/>
                <p:nvPr/>
              </p:nvSpPr>
              <p:spPr>
                <a:xfrm flipH="1" rot="16200000">
                  <a:off x="5322960" y="5101200"/>
                  <a:ext cx="116280" cy="8035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21"/>
                <p:cNvSpPr/>
                <p:nvPr/>
              </p:nvSpPr>
              <p:spPr>
                <a:xfrm flipH="1" rot="16200000">
                  <a:off x="537048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H="1">
                  <a:off x="5809320" y="5496480"/>
                  <a:ext cx="22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Rectangle 23"/>
              <p:cNvSpPr/>
              <p:nvPr/>
            </p:nvSpPr>
            <p:spPr>
              <a:xfrm>
                <a:off x="6049440" y="5057640"/>
                <a:ext cx="525240" cy="939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24"/>
              <p:cNvSpPr/>
              <p:nvPr/>
            </p:nvSpPr>
            <p:spPr>
              <a:xfrm>
                <a:off x="6192360" y="5236920"/>
                <a:ext cx="4410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5"/>
              <p:cNvSpPr/>
              <p:nvPr/>
            </p:nvSpPr>
            <p:spPr>
              <a:xfrm flipV="1">
                <a:off x="2563560" y="5033880"/>
                <a:ext cx="0" cy="9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6"/>
              <p:cNvSpPr/>
              <p:nvPr/>
            </p:nvSpPr>
            <p:spPr>
              <a:xfrm flipV="1">
                <a:off x="2631600" y="5104800"/>
                <a:ext cx="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7"/>
              <p:cNvSpPr/>
              <p:nvPr/>
            </p:nvSpPr>
            <p:spPr>
              <a:xfrm flipH="1">
                <a:off x="4425480" y="5198760"/>
                <a:ext cx="98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Group 28"/>
              <p:cNvGrpSpPr/>
              <p:nvPr/>
            </p:nvGrpSpPr>
            <p:grpSpPr>
              <a:xfrm>
                <a:off x="3928680" y="5746680"/>
                <a:ext cx="661320" cy="166320"/>
                <a:chOff x="3928680" y="5746680"/>
                <a:chExt cx="661320" cy="166320"/>
              </a:xfrm>
            </p:grpSpPr>
            <p:sp>
              <p:nvSpPr>
                <p:cNvPr id="412" name="Rectangle 29"/>
                <p:cNvSpPr/>
                <p:nvPr/>
              </p:nvSpPr>
              <p:spPr>
                <a:xfrm>
                  <a:off x="3928680" y="5746680"/>
                  <a:ext cx="661320" cy="166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0"/>
                <p:cNvSpPr/>
                <p:nvPr/>
              </p:nvSpPr>
              <p:spPr>
                <a:xfrm>
                  <a:off x="3963600" y="5799600"/>
                  <a:ext cx="582840" cy="50760"/>
                </a:xfrm>
                <a:custGeom>
                  <a:avLst/>
                  <a:gdLst/>
                  <a:ahLst/>
                  <a:rect l="l" t="t" r="r" b="b"/>
                  <a:pathLst>
                    <a:path w="1680" h="280">
                      <a:moveTo>
                        <a:pt x="0" y="140"/>
                      </a:moveTo>
                      <a:lnTo>
                        <a:pt x="80" y="0"/>
                      </a:lnTo>
                      <a:lnTo>
                        <a:pt x="160" y="280"/>
                      </a:lnTo>
                      <a:lnTo>
                        <a:pt x="240" y="0"/>
                      </a:lnTo>
                      <a:lnTo>
                        <a:pt x="320" y="280"/>
                      </a:lnTo>
                      <a:lnTo>
                        <a:pt x="400" y="0"/>
                      </a:lnTo>
                      <a:lnTo>
                        <a:pt x="480" y="280"/>
                      </a:lnTo>
                      <a:lnTo>
                        <a:pt x="560" y="0"/>
                      </a:lnTo>
                      <a:lnTo>
                        <a:pt x="640" y="280"/>
                      </a:lnTo>
                      <a:lnTo>
                        <a:pt x="720" y="0"/>
                      </a:lnTo>
                      <a:lnTo>
                        <a:pt x="800" y="280"/>
                      </a:lnTo>
                      <a:lnTo>
                        <a:pt x="880" y="0"/>
                      </a:lnTo>
                      <a:lnTo>
                        <a:pt x="960" y="280"/>
                      </a:lnTo>
                      <a:lnTo>
                        <a:pt x="1040" y="0"/>
                      </a:lnTo>
                      <a:lnTo>
                        <a:pt x="1120" y="280"/>
                      </a:lnTo>
                      <a:lnTo>
                        <a:pt x="1200" y="0"/>
                      </a:lnTo>
                      <a:lnTo>
                        <a:pt x="1280" y="280"/>
                      </a:lnTo>
                      <a:lnTo>
                        <a:pt x="1360" y="0"/>
                      </a:lnTo>
                      <a:lnTo>
                        <a:pt x="1440" y="280"/>
                      </a:lnTo>
                      <a:lnTo>
                        <a:pt x="1520" y="0"/>
                      </a:lnTo>
                      <a:lnTo>
                        <a:pt x="1600" y="280"/>
                      </a:lnTo>
                      <a:lnTo>
                        <a:pt x="1680" y="14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31"/>
              <p:cNvSpPr/>
              <p:nvPr/>
            </p:nvSpPr>
            <p:spPr>
              <a:xfrm>
                <a:off x="4322160" y="4770360"/>
                <a:ext cx="358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32"/>
              <p:cNvGrpSpPr/>
              <p:nvPr/>
            </p:nvGrpSpPr>
            <p:grpSpPr>
              <a:xfrm>
                <a:off x="2719080" y="5195880"/>
                <a:ext cx="1096200" cy="629640"/>
                <a:chOff x="2719080" y="5195880"/>
                <a:chExt cx="1096200" cy="629640"/>
              </a:xfrm>
            </p:grpSpPr>
            <p:grpSp>
              <p:nvGrpSpPr>
                <p:cNvPr id="416" name="Group 33"/>
                <p:cNvGrpSpPr/>
                <p:nvPr/>
              </p:nvGrpSpPr>
              <p:grpSpPr>
                <a:xfrm>
                  <a:off x="2719080" y="5439960"/>
                  <a:ext cx="262800" cy="154440"/>
                  <a:chOff x="2719080" y="5439960"/>
                  <a:chExt cx="262800" cy="154440"/>
                </a:xfrm>
              </p:grpSpPr>
              <p:sp>
                <p:nvSpPr>
                  <p:cNvPr id="417" name="Oval 34"/>
                  <p:cNvSpPr/>
                  <p:nvPr/>
                </p:nvSpPr>
                <p:spPr>
                  <a:xfrm flipH="1" rot="5400000">
                    <a:off x="2715840" y="5442840"/>
                    <a:ext cx="9972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35"/>
                  <p:cNvSpPr/>
                  <p:nvPr/>
                </p:nvSpPr>
                <p:spPr>
                  <a:xfrm flipH="1" rot="5400000">
                    <a:off x="2756880" y="5515560"/>
                    <a:ext cx="8136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36"/>
                  <p:cNvSpPr/>
                  <p:nvPr/>
                </p:nvSpPr>
                <p:spPr>
                  <a:xfrm flipH="1">
                    <a:off x="2827080" y="549252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37"/>
                <p:cNvGrpSpPr/>
                <p:nvPr/>
              </p:nvGrpSpPr>
              <p:grpSpPr>
                <a:xfrm>
                  <a:off x="3552480" y="5474160"/>
                  <a:ext cx="262800" cy="155160"/>
                  <a:chOff x="3552480" y="5474160"/>
                  <a:chExt cx="262800" cy="155160"/>
                </a:xfrm>
              </p:grpSpPr>
              <p:sp>
                <p:nvSpPr>
                  <p:cNvPr id="421" name="Oval 38"/>
                  <p:cNvSpPr/>
                  <p:nvPr/>
                </p:nvSpPr>
                <p:spPr>
                  <a:xfrm rot="16200000">
                    <a:off x="3718440" y="5477400"/>
                    <a:ext cx="10008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Rectangle 39"/>
                  <p:cNvSpPr/>
                  <p:nvPr/>
                </p:nvSpPr>
                <p:spPr>
                  <a:xfrm rot="16200000">
                    <a:off x="3695760" y="5550120"/>
                    <a:ext cx="817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40"/>
                  <p:cNvSpPr/>
                  <p:nvPr/>
                </p:nvSpPr>
                <p:spPr>
                  <a:xfrm>
                    <a:off x="3552480" y="5527440"/>
                    <a:ext cx="154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41"/>
                <p:cNvGrpSpPr/>
                <p:nvPr/>
              </p:nvGrpSpPr>
              <p:grpSpPr>
                <a:xfrm>
                  <a:off x="2995560" y="5195880"/>
                  <a:ext cx="593640" cy="629640"/>
                  <a:chOff x="2995560" y="5195880"/>
                  <a:chExt cx="593640" cy="629640"/>
                </a:xfrm>
              </p:grpSpPr>
              <p:sp>
                <p:nvSpPr>
                  <p:cNvPr id="425" name="Oval 42"/>
                  <p:cNvSpPr/>
                  <p:nvPr/>
                </p:nvSpPr>
                <p:spPr>
                  <a:xfrm flipH="1" rot="16200000">
                    <a:off x="2977200" y="5213880"/>
                    <a:ext cx="629640" cy="59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43"/>
                  <p:cNvSpPr/>
                  <p:nvPr/>
                </p:nvSpPr>
                <p:spPr>
                  <a:xfrm flipH="1" rot="16200000">
                    <a:off x="3038040" y="5270760"/>
                    <a:ext cx="505800" cy="47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" name="Rectangle 44"/>
                <p:cNvSpPr/>
                <p:nvPr/>
              </p:nvSpPr>
              <p:spPr>
                <a:xfrm flipH="1" rot="16200000">
                  <a:off x="3234960" y="5100480"/>
                  <a:ext cx="116280" cy="8053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5"/>
                <p:cNvSpPr/>
                <p:nvPr/>
              </p:nvSpPr>
              <p:spPr>
                <a:xfrm flipH="1" rot="16200000">
                  <a:off x="3283560" y="5497560"/>
                  <a:ext cx="40320" cy="38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46"/>
              <p:cNvSpPr/>
              <p:nvPr/>
            </p:nvSpPr>
            <p:spPr>
              <a:xfrm>
                <a:off x="2626920" y="6054480"/>
                <a:ext cx="407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47"/>
              <p:cNvSpPr/>
              <p:nvPr/>
            </p:nvSpPr>
            <p:spPr>
              <a:xfrm flipH="1" flipV="1">
                <a:off x="3277440" y="5223960"/>
                <a:ext cx="153612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48"/>
              <p:cNvSpPr/>
              <p:nvPr/>
            </p:nvSpPr>
            <p:spPr>
              <a:xfrm>
                <a:off x="3303000" y="5837040"/>
                <a:ext cx="216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49"/>
              <p:cNvSpPr/>
              <p:nvPr/>
            </p:nvSpPr>
            <p:spPr>
              <a:xfrm flipV="1">
                <a:off x="2625120" y="5445000"/>
                <a:ext cx="18216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Text Box 51"/>
          <p:cNvSpPr/>
          <p:nvPr/>
        </p:nvSpPr>
        <p:spPr>
          <a:xfrm>
            <a:off x="4959360" y="3033720"/>
            <a:ext cx="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2"/>
          <p:cNvSpPr/>
          <p:nvPr/>
        </p:nvSpPr>
        <p:spPr>
          <a:xfrm>
            <a:off x="5921280" y="35290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3"/>
          <p:cNvSpPr/>
          <p:nvPr/>
        </p:nvSpPr>
        <p:spPr>
          <a:xfrm>
            <a:off x="5362560" y="4037040"/>
            <a:ext cx="10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31640" y="1089000"/>
            <a:ext cx="777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所示的滑轮组将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匀速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所用的拉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做的有用功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改为提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重物时，该滑轮组的机械效率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（忽略滑轮重和绳与轴的摩擦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468360" y="2097000"/>
            <a:ext cx="13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4211640" y="213372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6335640" y="2633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5.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"/>
          <p:cNvGrpSpPr/>
          <p:nvPr/>
        </p:nvGrpSpPr>
        <p:grpSpPr>
          <a:xfrm>
            <a:off x="6300720" y="3222360"/>
            <a:ext cx="989640" cy="3014640"/>
            <a:chOff x="6300720" y="3222360"/>
            <a:chExt cx="989640" cy="3014640"/>
          </a:xfrm>
        </p:grpSpPr>
        <p:grpSp>
          <p:nvGrpSpPr>
            <p:cNvPr id="441" name="Group 8"/>
            <p:cNvGrpSpPr/>
            <p:nvPr/>
          </p:nvGrpSpPr>
          <p:grpSpPr>
            <a:xfrm>
              <a:off x="6346440" y="3222360"/>
              <a:ext cx="943920" cy="3014640"/>
              <a:chOff x="6346440" y="3222360"/>
              <a:chExt cx="943920" cy="3014640"/>
            </a:xfrm>
          </p:grpSpPr>
          <p:grpSp>
            <p:nvGrpSpPr>
              <p:cNvPr id="442" name="xjhlx8"/>
              <p:cNvGrpSpPr/>
              <p:nvPr/>
            </p:nvGrpSpPr>
            <p:grpSpPr>
              <a:xfrm>
                <a:off x="6543360" y="3237120"/>
                <a:ext cx="486000" cy="644040"/>
                <a:chOff x="6543360" y="3237120"/>
                <a:chExt cx="486000" cy="644040"/>
              </a:xfrm>
            </p:grpSpPr>
            <p:grpSp>
              <p:nvGrpSpPr>
                <p:cNvPr id="443" name="Group 146"/>
                <p:cNvGrpSpPr/>
                <p:nvPr/>
              </p:nvGrpSpPr>
              <p:grpSpPr>
                <a:xfrm>
                  <a:off x="6543360" y="3421440"/>
                  <a:ext cx="486000" cy="459720"/>
                  <a:chOff x="6543360" y="3421440"/>
                  <a:chExt cx="486000" cy="459720"/>
                </a:xfrm>
              </p:grpSpPr>
              <p:sp>
                <p:nvSpPr>
                  <p:cNvPr id="444" name="Oval 147"/>
                  <p:cNvSpPr/>
                  <p:nvPr/>
                </p:nvSpPr>
                <p:spPr>
                  <a:xfrm flipH="1" flipV="1" rot="16200000">
                    <a:off x="6556320" y="3407760"/>
                    <a:ext cx="459720" cy="48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148"/>
                  <p:cNvSpPr/>
                  <p:nvPr/>
                </p:nvSpPr>
                <p:spPr>
                  <a:xfrm flipH="1" flipV="1" rot="16200000">
                    <a:off x="6620040" y="3475440"/>
                    <a:ext cx="331920" cy="35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149"/>
                  <p:cNvSpPr/>
                  <p:nvPr/>
                </p:nvSpPr>
                <p:spPr>
                  <a:xfrm flipH="1" flipV="1" rot="16200000">
                    <a:off x="6684120" y="3542400"/>
                    <a:ext cx="204120" cy="21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150"/>
                  <p:cNvSpPr/>
                  <p:nvPr/>
                </p:nvSpPr>
                <p:spPr>
                  <a:xfrm flipH="1" flipV="1" rot="16200000">
                    <a:off x="6747840" y="3610440"/>
                    <a:ext cx="76680" cy="810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Rectangle 151"/>
                <p:cNvSpPr/>
                <p:nvPr/>
              </p:nvSpPr>
              <p:spPr>
                <a:xfrm flipH="1" flipV="1" rot="16200000">
                  <a:off x="6566040" y="3416400"/>
                  <a:ext cx="439920" cy="81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Line 164"/>
              <p:cNvSpPr/>
              <p:nvPr/>
            </p:nvSpPr>
            <p:spPr>
              <a:xfrm>
                <a:off x="6527520" y="4546800"/>
                <a:ext cx="1800" cy="67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65"/>
              <p:cNvSpPr/>
              <p:nvPr/>
            </p:nvSpPr>
            <p:spPr>
              <a:xfrm flipH="1">
                <a:off x="7009920" y="3668760"/>
                <a:ext cx="11160" cy="148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66"/>
              <p:cNvSpPr/>
              <p:nvPr/>
            </p:nvSpPr>
            <p:spPr>
              <a:xfrm>
                <a:off x="6551640" y="3714840"/>
                <a:ext cx="291960" cy="114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19"/>
              <p:cNvGrpSpPr/>
              <p:nvPr/>
            </p:nvGrpSpPr>
            <p:grpSpPr>
              <a:xfrm>
                <a:off x="6570360" y="5615280"/>
                <a:ext cx="495000" cy="621720"/>
                <a:chOff x="6570360" y="5615280"/>
                <a:chExt cx="495000" cy="621720"/>
              </a:xfrm>
            </p:grpSpPr>
            <p:sp>
              <p:nvSpPr>
                <p:cNvPr id="453" name="Freeform 169"/>
                <p:cNvSpPr/>
                <p:nvPr/>
              </p:nvSpPr>
              <p:spPr>
                <a:xfrm flipH="1" flipV="1">
                  <a:off x="6732360" y="5615280"/>
                  <a:ext cx="117000" cy="13320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170"/>
                <p:cNvSpPr/>
                <p:nvPr/>
              </p:nvSpPr>
              <p:spPr>
                <a:xfrm>
                  <a:off x="6570360" y="5757480"/>
                  <a:ext cx="495000" cy="47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b0b0"/>
                    </a:gs>
                    <a:gs pos="50000">
                      <a:srgbClr val="ffffff"/>
                    </a:gs>
                    <a:gs pos="100000">
                      <a:srgbClr val="b0b0b0"/>
                    </a:gs>
                  </a:gsLst>
                  <a:lin ang="0"/>
                </a:gra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Group 175"/>
              <p:cNvGrpSpPr/>
              <p:nvPr/>
            </p:nvGrpSpPr>
            <p:grpSpPr>
              <a:xfrm>
                <a:off x="6346440" y="3222360"/>
                <a:ext cx="943920" cy="50760"/>
                <a:chOff x="6346440" y="3222360"/>
                <a:chExt cx="943920" cy="50760"/>
              </a:xfrm>
            </p:grpSpPr>
            <p:sp>
              <p:nvSpPr>
                <p:cNvPr id="456" name="Line 176"/>
                <p:cNvSpPr/>
                <p:nvPr/>
              </p:nvSpPr>
              <p:spPr>
                <a:xfrm flipH="1" flipV="1">
                  <a:off x="634644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77"/>
                <p:cNvSpPr/>
                <p:nvPr/>
              </p:nvSpPr>
              <p:spPr>
                <a:xfrm flipH="1" flipV="1">
                  <a:off x="650304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78"/>
                <p:cNvSpPr/>
                <p:nvPr/>
              </p:nvSpPr>
              <p:spPr>
                <a:xfrm flipH="1" flipV="1">
                  <a:off x="6661440" y="3222360"/>
                  <a:ext cx="15696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79"/>
                <p:cNvSpPr/>
                <p:nvPr/>
              </p:nvSpPr>
              <p:spPr>
                <a:xfrm flipH="1" flipV="1">
                  <a:off x="681840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80"/>
                <p:cNvSpPr/>
                <p:nvPr/>
              </p:nvSpPr>
              <p:spPr>
                <a:xfrm flipH="1" flipV="1">
                  <a:off x="6975360" y="3222360"/>
                  <a:ext cx="1566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81"/>
                <p:cNvSpPr/>
                <p:nvPr/>
              </p:nvSpPr>
              <p:spPr>
                <a:xfrm flipH="1" flipV="1">
                  <a:off x="7132320" y="3222360"/>
                  <a:ext cx="1580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82"/>
                <p:cNvSpPr/>
                <p:nvPr/>
              </p:nvSpPr>
              <p:spPr>
                <a:xfrm>
                  <a:off x="6376680" y="3273120"/>
                  <a:ext cx="912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30"/>
              <p:cNvGrpSpPr/>
              <p:nvPr/>
            </p:nvGrpSpPr>
            <p:grpSpPr>
              <a:xfrm>
                <a:off x="6527520" y="4647960"/>
                <a:ext cx="482400" cy="1039680"/>
                <a:chOff x="6527520" y="4647960"/>
                <a:chExt cx="482400" cy="1039680"/>
              </a:xfrm>
            </p:grpSpPr>
            <p:grpSp>
              <p:nvGrpSpPr>
                <p:cNvPr id="464" name="xjhlx12"/>
                <p:cNvGrpSpPr/>
                <p:nvPr/>
              </p:nvGrpSpPr>
              <p:grpSpPr>
                <a:xfrm>
                  <a:off x="6527520" y="4946400"/>
                  <a:ext cx="461880" cy="741240"/>
                  <a:chOff x="6527520" y="4946400"/>
                  <a:chExt cx="461880" cy="741240"/>
                </a:xfrm>
              </p:grpSpPr>
              <p:grpSp>
                <p:nvGrpSpPr>
                  <p:cNvPr id="465" name="Group 153"/>
                  <p:cNvGrpSpPr/>
                  <p:nvPr/>
                </p:nvGrpSpPr>
                <p:grpSpPr>
                  <a:xfrm>
                    <a:off x="6527520" y="4946400"/>
                    <a:ext cx="461880" cy="435240"/>
                    <a:chOff x="6527520" y="4946400"/>
                    <a:chExt cx="461880" cy="435240"/>
                  </a:xfrm>
                </p:grpSpPr>
                <p:sp>
                  <p:nvSpPr>
                    <p:cNvPr id="466" name="Oval 154"/>
                    <p:cNvSpPr/>
                    <p:nvPr/>
                  </p:nvSpPr>
                  <p:spPr>
                    <a:xfrm>
                      <a:off x="6527520" y="4946400"/>
                      <a:ext cx="461880" cy="435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Oval 155"/>
                    <p:cNvSpPr/>
                    <p:nvPr/>
                  </p:nvSpPr>
                  <p:spPr>
                    <a:xfrm>
                      <a:off x="6591600" y="5006880"/>
                      <a:ext cx="333720" cy="314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Oval 156"/>
                    <p:cNvSpPr/>
                    <p:nvPr/>
                  </p:nvSpPr>
                  <p:spPr>
                    <a:xfrm>
                      <a:off x="6655680" y="5067360"/>
                      <a:ext cx="205200" cy="19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Oval 157"/>
                    <p:cNvSpPr/>
                    <p:nvPr/>
                  </p:nvSpPr>
                  <p:spPr>
                    <a:xfrm>
                      <a:off x="6719760" y="5127840"/>
                      <a:ext cx="77040" cy="723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158"/>
                  <p:cNvGrpSpPr/>
                  <p:nvPr/>
                </p:nvGrpSpPr>
                <p:grpSpPr>
                  <a:xfrm>
                    <a:off x="6613920" y="5119920"/>
                    <a:ext cx="293400" cy="567720"/>
                    <a:chOff x="6613920" y="5119920"/>
                    <a:chExt cx="293400" cy="567720"/>
                  </a:xfrm>
                </p:grpSpPr>
                <p:sp>
                  <p:nvSpPr>
                    <p:cNvPr id="471" name="Freeform 159"/>
                    <p:cNvSpPr/>
                    <p:nvPr/>
                  </p:nvSpPr>
                  <p:spPr>
                    <a:xfrm>
                      <a:off x="6687720" y="5441760"/>
                      <a:ext cx="203760" cy="24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2" name="Group 160"/>
                    <p:cNvGrpSpPr/>
                    <p:nvPr/>
                  </p:nvGrpSpPr>
                  <p:grpSpPr>
                    <a:xfrm>
                      <a:off x="6613920" y="5119920"/>
                      <a:ext cx="293400" cy="356760"/>
                      <a:chOff x="6613920" y="5119920"/>
                      <a:chExt cx="293400" cy="356760"/>
                    </a:xfrm>
                  </p:grpSpPr>
                  <p:sp>
                    <p:nvSpPr>
                      <p:cNvPr id="473" name="Freeform 161"/>
                      <p:cNvSpPr/>
                      <p:nvPr/>
                    </p:nvSpPr>
                    <p:spPr>
                      <a:xfrm>
                        <a:off x="6613920" y="5119920"/>
                        <a:ext cx="293400" cy="35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5" h="1180">
                            <a:moveTo>
                              <a:pt x="0" y="0"/>
                            </a:moveTo>
                            <a:lnTo>
                              <a:pt x="915" y="15"/>
                            </a:lnTo>
                            <a:lnTo>
                              <a:pt x="630" y="1180"/>
                            </a:lnTo>
                            <a:lnTo>
                              <a:pt x="270" y="115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Oval 162"/>
                      <p:cNvSpPr/>
                      <p:nvPr/>
                    </p:nvSpPr>
                    <p:spPr>
                      <a:xfrm>
                        <a:off x="6719760" y="51350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Oval 163"/>
                      <p:cNvSpPr/>
                      <p:nvPr/>
                    </p:nvSpPr>
                    <p:spPr>
                      <a:xfrm>
                        <a:off x="6726240" y="5381640"/>
                        <a:ext cx="6876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0000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6" name="Group 184"/>
                <p:cNvGrpSpPr/>
                <p:nvPr/>
              </p:nvGrpSpPr>
              <p:grpSpPr>
                <a:xfrm>
                  <a:off x="6548400" y="4954320"/>
                  <a:ext cx="461520" cy="435600"/>
                  <a:chOff x="6548400" y="4954320"/>
                  <a:chExt cx="461520" cy="435600"/>
                </a:xfrm>
              </p:grpSpPr>
              <p:sp>
                <p:nvSpPr>
                  <p:cNvPr id="477" name="Oval 185"/>
                  <p:cNvSpPr/>
                  <p:nvPr/>
                </p:nvSpPr>
                <p:spPr>
                  <a:xfrm flipV="1">
                    <a:off x="6548400" y="4954320"/>
                    <a:ext cx="461520" cy="43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186"/>
                  <p:cNvSpPr/>
                  <p:nvPr/>
                </p:nvSpPr>
                <p:spPr>
                  <a:xfrm flipV="1">
                    <a:off x="6612480" y="5014800"/>
                    <a:ext cx="333360" cy="31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187"/>
                  <p:cNvSpPr/>
                  <p:nvPr/>
                </p:nvSpPr>
                <p:spPr>
                  <a:xfrm flipV="1">
                    <a:off x="6676560" y="5075280"/>
                    <a:ext cx="205200" cy="1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188"/>
                  <p:cNvSpPr/>
                  <p:nvPr/>
                </p:nvSpPr>
                <p:spPr>
                  <a:xfrm flipV="1">
                    <a:off x="6740640" y="5135760"/>
                    <a:ext cx="76680" cy="72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Freeform 190"/>
                <p:cNvSpPr/>
                <p:nvPr/>
              </p:nvSpPr>
              <p:spPr>
                <a:xfrm flipV="1">
                  <a:off x="6708240" y="4647600"/>
                  <a:ext cx="202680" cy="24588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194"/>
                <p:cNvSpPr/>
                <p:nvPr/>
              </p:nvSpPr>
              <p:spPr>
                <a:xfrm flipV="1">
                  <a:off x="6741000" y="489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50"/>
                <p:cNvGrpSpPr/>
                <p:nvPr/>
              </p:nvGrpSpPr>
              <p:grpSpPr>
                <a:xfrm>
                  <a:off x="6681240" y="4859280"/>
                  <a:ext cx="173880" cy="667080"/>
                  <a:chOff x="6681240" y="4859280"/>
                  <a:chExt cx="173880" cy="667080"/>
                </a:xfrm>
              </p:grpSpPr>
              <p:sp>
                <p:nvSpPr>
                  <p:cNvPr id="484" name="Freeform 192"/>
                  <p:cNvSpPr/>
                  <p:nvPr/>
                </p:nvSpPr>
                <p:spPr>
                  <a:xfrm flipV="1">
                    <a:off x="6687000" y="48592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192"/>
                  <p:cNvSpPr/>
                  <p:nvPr/>
                </p:nvSpPr>
                <p:spPr>
                  <a:xfrm>
                    <a:off x="6681240" y="5170680"/>
                    <a:ext cx="1681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80">
                        <a:moveTo>
                          <a:pt x="0" y="0"/>
                        </a:moveTo>
                        <a:lnTo>
                          <a:pt x="915" y="15"/>
                        </a:lnTo>
                        <a:lnTo>
                          <a:pt x="630" y="1180"/>
                        </a:lnTo>
                        <a:lnTo>
                          <a:pt x="270" y="1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Oval 193"/>
                <p:cNvSpPr/>
                <p:nvPr/>
              </p:nvSpPr>
              <p:spPr>
                <a:xfrm flipV="1">
                  <a:off x="6730560" y="516168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93"/>
                <p:cNvSpPr/>
                <p:nvPr/>
              </p:nvSpPr>
              <p:spPr>
                <a:xfrm flipV="1">
                  <a:off x="6741000" y="4841640"/>
                  <a:ext cx="6768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93"/>
                <p:cNvSpPr/>
                <p:nvPr/>
              </p:nvSpPr>
              <p:spPr>
                <a:xfrm flipV="1">
                  <a:off x="6730560" y="5436360"/>
                  <a:ext cx="6768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Text Box 144"/>
            <p:cNvSpPr/>
            <p:nvPr/>
          </p:nvSpPr>
          <p:spPr>
            <a:xfrm>
              <a:off x="6300720" y="421344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144"/>
            <p:cNvSpPr/>
            <p:nvPr/>
          </p:nvSpPr>
          <p:spPr>
            <a:xfrm>
              <a:off x="6705360" y="5832720"/>
              <a:ext cx="258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8"/>
          <p:cNvSpPr/>
          <p:nvPr/>
        </p:nvSpPr>
        <p:spPr>
          <a:xfrm>
            <a:off x="611280" y="1197000"/>
            <a:ext cx="6254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一、简单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19280" y="2527200"/>
            <a:ext cx="820872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杠杆的五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示杠杆的力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684360" y="1920960"/>
            <a:ext cx="1800000" cy="716040"/>
            <a:chOff x="684360" y="1920960"/>
            <a:chExt cx="1800000" cy="716040"/>
          </a:xfrm>
        </p:grpSpPr>
        <p:grpSp>
          <p:nvGrpSpPr>
            <p:cNvPr id="46" name="Group 7"/>
            <p:cNvGrpSpPr/>
            <p:nvPr/>
          </p:nvGrpSpPr>
          <p:grpSpPr>
            <a:xfrm>
              <a:off x="684360" y="1920960"/>
              <a:ext cx="1800000" cy="716040"/>
              <a:chOff x="684360" y="1920960"/>
              <a:chExt cx="1800000" cy="716040"/>
            </a:xfrm>
          </p:grpSpPr>
          <p:pic>
            <p:nvPicPr>
              <p:cNvPr id="47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1920960"/>
                <a:ext cx="180000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857520" y="1962360"/>
                <a:ext cx="144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10"/>
            <p:cNvSpPr/>
            <p:nvPr/>
          </p:nvSpPr>
          <p:spPr>
            <a:xfrm>
              <a:off x="1183680" y="2011320"/>
              <a:ext cx="8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杠   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8"/>
          <p:cNvSpPr/>
          <p:nvPr/>
        </p:nvSpPr>
        <p:spPr>
          <a:xfrm>
            <a:off x="1258920" y="4113360"/>
            <a:ext cx="6769080" cy="2023200"/>
          </a:xfrm>
          <a:prstGeom prst="roundRect">
            <a:avLst>
              <a:gd name="adj" fmla="val 10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出图中力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力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3994200" y="3933720"/>
            <a:ext cx="3744720" cy="2355840"/>
            <a:chOff x="3994200" y="3933720"/>
            <a:chExt cx="3744720" cy="2355840"/>
          </a:xfrm>
        </p:grpSpPr>
        <p:pic>
          <p:nvPicPr>
            <p:cNvPr id="52" name="Picture 8" descr="胳膊"/>
            <p:cNvPicPr/>
            <p:nvPr/>
          </p:nvPicPr>
          <p:blipFill>
            <a:blip r:embed="rId2"/>
            <a:stretch/>
          </p:blipFill>
          <p:spPr>
            <a:xfrm>
              <a:off x="3994200" y="3933720"/>
              <a:ext cx="37447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Line 14"/>
            <p:cNvSpPr/>
            <p:nvPr/>
          </p:nvSpPr>
          <p:spPr>
            <a:xfrm>
              <a:off x="4606560" y="4905360"/>
              <a:ext cx="0" cy="1187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4213080" y="576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6837120" y="5265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6948720" y="512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20"/>
          <p:cNvSpPr/>
          <p:nvPr/>
        </p:nvSpPr>
        <p:spPr>
          <a:xfrm>
            <a:off x="4606920" y="5300640"/>
            <a:ext cx="2195640" cy="1440"/>
          </a:xfrm>
          <a:prstGeom prst="line">
            <a:avLst/>
          </a:prstGeom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614920" y="5121360"/>
            <a:ext cx="493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60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61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MH_Other_8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693720"/>
            <a:ext cx="770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一块截面积为矩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均匀金属块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0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的长宽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将它置于水平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上如图所示，若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用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抬起金属块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，则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少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556000" y="3716280"/>
            <a:ext cx="3168000" cy="1869480"/>
            <a:chOff x="2556000" y="3716280"/>
            <a:chExt cx="3168000" cy="1869480"/>
          </a:xfrm>
        </p:grpSpPr>
        <p:sp>
          <p:nvSpPr>
            <p:cNvPr id="68" name="Line 4"/>
            <p:cNvSpPr/>
            <p:nvPr/>
          </p:nvSpPr>
          <p:spPr>
            <a:xfrm>
              <a:off x="2556000" y="5005800"/>
              <a:ext cx="3168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H="1">
              <a:off x="259776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 flipH="1">
              <a:off x="310500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 flipH="1">
              <a:off x="358452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 flipH="1">
              <a:off x="406404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 flipH="1">
              <a:off x="4485600" y="5005800"/>
              <a:ext cx="348480" cy="168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4859280" y="5034240"/>
              <a:ext cx="3466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 flipH="1">
              <a:off x="5206320" y="5034240"/>
              <a:ext cx="348480" cy="1677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3343680" y="4038120"/>
              <a:ext cx="135756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2997000" y="373284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4741920" y="371628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3138840" y="5072400"/>
              <a:ext cx="4006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4677120" y="5072400"/>
              <a:ext cx="40284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3690000" y="4446720"/>
            <a:ext cx="425880" cy="1591560"/>
            <a:chOff x="3690000" y="4446720"/>
            <a:chExt cx="425880" cy="1591560"/>
          </a:xfrm>
        </p:grpSpPr>
        <p:sp>
          <p:nvSpPr>
            <p:cNvPr id="82" name="Oval 18"/>
            <p:cNvSpPr/>
            <p:nvPr/>
          </p:nvSpPr>
          <p:spPr>
            <a:xfrm>
              <a:off x="4011480" y="4446720"/>
              <a:ext cx="104400" cy="10944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4073400" y="4487760"/>
              <a:ext cx="1080" cy="1393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3690000" y="557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21"/>
          <p:cNvSpPr/>
          <p:nvPr/>
        </p:nvSpPr>
        <p:spPr>
          <a:xfrm>
            <a:off x="4600440" y="4986360"/>
            <a:ext cx="2048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4097160" y="5014800"/>
            <a:ext cx="544680" cy="1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4106880" y="5165640"/>
            <a:ext cx="599760" cy="510120"/>
            <a:chOff x="4106880" y="5165640"/>
            <a:chExt cx="599760" cy="510120"/>
          </a:xfrm>
        </p:grpSpPr>
        <p:sp>
          <p:nvSpPr>
            <p:cNvPr id="88" name="AutoShape 24"/>
            <p:cNvSpPr/>
            <p:nvPr/>
          </p:nvSpPr>
          <p:spPr>
            <a:xfrm rot="16200000">
              <a:off x="4356000" y="4961160"/>
              <a:ext cx="101520" cy="59976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15480 h 599760"/>
                <a:gd name="textAreaBottom" fmla="*/ 58428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4122720" y="516564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6"/>
          <p:cNvGrpSpPr/>
          <p:nvPr/>
        </p:nvGrpSpPr>
        <p:grpSpPr>
          <a:xfrm>
            <a:off x="3387600" y="3043080"/>
            <a:ext cx="618840" cy="970200"/>
            <a:chOff x="3387600" y="3043080"/>
            <a:chExt cx="618840" cy="970200"/>
          </a:xfrm>
        </p:grpSpPr>
        <p:sp>
          <p:nvSpPr>
            <p:cNvPr id="91" name="Line 27"/>
            <p:cNvSpPr/>
            <p:nvPr/>
          </p:nvSpPr>
          <p:spPr>
            <a:xfrm flipV="1">
              <a:off x="3387600" y="3509640"/>
              <a:ext cx="356400" cy="5036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8"/>
            <p:cNvSpPr/>
            <p:nvPr/>
          </p:nvSpPr>
          <p:spPr>
            <a:xfrm rot="341400">
              <a:off x="3601080" y="306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3392280" y="3844440"/>
            <a:ext cx="1418040" cy="1229040"/>
            <a:chOff x="3392280" y="3844440"/>
            <a:chExt cx="1418040" cy="1229040"/>
          </a:xfrm>
        </p:grpSpPr>
        <p:sp>
          <p:nvSpPr>
            <p:cNvPr id="94" name="Line 30"/>
            <p:cNvSpPr/>
            <p:nvPr/>
          </p:nvSpPr>
          <p:spPr>
            <a:xfrm>
              <a:off x="3416400" y="4071960"/>
              <a:ext cx="1349280" cy="1001520"/>
            </a:xfrm>
            <a:prstGeom prst="line">
              <a:avLst/>
            </a:prstGeom>
            <a:ln w="28440">
              <a:solidFill>
                <a:srgbClr val="00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 flipV="1" rot="7576200">
              <a:off x="4002840" y="3593880"/>
              <a:ext cx="196560" cy="1614600"/>
            </a:xfrm>
            <a:custGeom>
              <a:avLst/>
              <a:gdLst>
                <a:gd name="textAreaLeft" fmla="*/ 125640 w 196560"/>
                <a:gd name="textAreaRight" fmla="*/ 196920 w 196560"/>
                <a:gd name="textAreaTop" fmla="*/ 41760 h 1614600"/>
                <a:gd name="textAreaBottom" fmla="*/ 1572840 h 16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006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7"/>
                    <a:pt x="10800" y="12594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4142520" y="4081320"/>
              <a:ext cx="32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Object 33" descr=""/>
          <p:cNvPicPr/>
          <p:nvPr/>
        </p:nvPicPr>
        <p:blipFill>
          <a:blip r:embed="rId1"/>
          <a:stretch/>
        </p:blipFill>
        <p:spPr>
          <a:xfrm>
            <a:off x="5977080" y="3500280"/>
            <a:ext cx="1753920" cy="1150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5"/>
          <p:cNvSpPr/>
          <p:nvPr/>
        </p:nvSpPr>
        <p:spPr>
          <a:xfrm>
            <a:off x="3780000" y="223668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1"/>
          <p:cNvSpPr/>
          <p:nvPr/>
        </p:nvSpPr>
        <p:spPr>
          <a:xfrm>
            <a:off x="684360" y="71748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探究杠杆的平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节杠杆在水平位置平衡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取实验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纳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781360"/>
          <a:ext cx="8697600" cy="3408480"/>
        </p:xfrm>
        <a:graphic>
          <a:graphicData uri="http://schemas.openxmlformats.org/drawingml/2006/table">
            <a:tbl>
              <a:tblPr/>
              <a:tblGrid>
                <a:gridCol w="825120"/>
                <a:gridCol w="974880"/>
                <a:gridCol w="1116000"/>
                <a:gridCol w="1800000"/>
                <a:gridCol w="865440"/>
                <a:gridCol w="1223640"/>
                <a:gridCol w="1892520"/>
              </a:tblGrid>
              <a:tr h="78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实验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阻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×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动力臂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/N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1"/>
          <p:cNvSpPr/>
          <p:nvPr/>
        </p:nvSpPr>
        <p:spPr>
          <a:xfrm>
            <a:off x="539640" y="915840"/>
            <a:ext cx="8460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的平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力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6227640" y="2189160"/>
            <a:ext cx="1116000" cy="915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139200" y="237024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力与它们的力臂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812880" y="3213000"/>
            <a:ext cx="4622760" cy="2683800"/>
          </a:xfrm>
          <a:prstGeom prst="roundRect">
            <a:avLst>
              <a:gd name="adj" fmla="val 3245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  <a:ea typeface="楷体"/>
              </a:rPr>
              <a:t>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右图所示杠杆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作如下变化，杠杆能平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左侧加一个相同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若右侧减一个钩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支点右移一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左侧钩码组左移一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5580000" y="4221000"/>
            <a:ext cx="3152880" cy="934920"/>
            <a:chOff x="5580000" y="4221000"/>
            <a:chExt cx="3152880" cy="934920"/>
          </a:xfrm>
        </p:grpSpPr>
        <p:grpSp>
          <p:nvGrpSpPr>
            <p:cNvPr id="106" name="Group 44"/>
            <p:cNvGrpSpPr/>
            <p:nvPr/>
          </p:nvGrpSpPr>
          <p:grpSpPr>
            <a:xfrm>
              <a:off x="6156360" y="4303800"/>
              <a:ext cx="257040" cy="852120"/>
              <a:chOff x="6156360" y="4303800"/>
              <a:chExt cx="257040" cy="852120"/>
            </a:xfrm>
          </p:grpSpPr>
          <p:sp>
            <p:nvSpPr>
              <p:cNvPr id="107" name="Rectangle 45"/>
              <p:cNvSpPr/>
              <p:nvPr/>
            </p:nvSpPr>
            <p:spPr>
              <a:xfrm>
                <a:off x="6156360" y="44902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6284880" y="430380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6284880" y="4656240"/>
                <a:ext cx="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48"/>
              <p:cNvSpPr/>
              <p:nvPr/>
            </p:nvSpPr>
            <p:spPr>
              <a:xfrm>
                <a:off x="6156360" y="476388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6284880" y="49064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0"/>
              <p:cNvSpPr/>
              <p:nvPr/>
            </p:nvSpPr>
            <p:spPr>
              <a:xfrm>
                <a:off x="6156360" y="4989960"/>
                <a:ext cx="257040" cy="165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5"/>
            <p:cNvGrpSpPr/>
            <p:nvPr/>
          </p:nvGrpSpPr>
          <p:grpSpPr>
            <a:xfrm>
              <a:off x="8172360" y="4255920"/>
              <a:ext cx="272880" cy="893880"/>
              <a:chOff x="8172360" y="4255920"/>
              <a:chExt cx="272880" cy="893880"/>
            </a:xfrm>
          </p:grpSpPr>
          <p:sp>
            <p:nvSpPr>
              <p:cNvPr id="114" name="Line 57"/>
              <p:cNvSpPr/>
              <p:nvPr/>
            </p:nvSpPr>
            <p:spPr>
              <a:xfrm>
                <a:off x="8316720" y="4869000"/>
                <a:ext cx="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17"/>
              <p:cNvGrpSpPr/>
              <p:nvPr/>
            </p:nvGrpSpPr>
            <p:grpSpPr>
              <a:xfrm>
                <a:off x="8172360" y="4255920"/>
                <a:ext cx="272880" cy="893880"/>
                <a:chOff x="8172360" y="4255920"/>
                <a:chExt cx="272880" cy="893880"/>
              </a:xfrm>
            </p:grpSpPr>
            <p:sp>
              <p:nvSpPr>
                <p:cNvPr id="116" name="Rectangle 58"/>
                <p:cNvSpPr/>
                <p:nvPr/>
              </p:nvSpPr>
              <p:spPr>
                <a:xfrm>
                  <a:off x="8172360" y="4970160"/>
                  <a:ext cx="272880" cy="17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b6a6a"/>
                    </a:gs>
                    <a:gs pos="50000">
                      <a:srgbClr val="e7e6e6"/>
                    </a:gs>
                    <a:gs pos="100000">
                      <a:srgbClr val="6b6a6a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19"/>
                <p:cNvGrpSpPr/>
                <p:nvPr/>
              </p:nvGrpSpPr>
              <p:grpSpPr>
                <a:xfrm>
                  <a:off x="8184960" y="4255920"/>
                  <a:ext cx="258840" cy="623520"/>
                  <a:chOff x="8184960" y="4255920"/>
                  <a:chExt cx="258840" cy="623520"/>
                </a:xfrm>
              </p:grpSpPr>
              <p:sp>
                <p:nvSpPr>
                  <p:cNvPr id="118" name="Line 51"/>
                  <p:cNvSpPr/>
                  <p:nvPr/>
                </p:nvSpPr>
                <p:spPr>
                  <a:xfrm>
                    <a:off x="8321760" y="4588920"/>
                    <a:ext cx="0" cy="13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Group 52"/>
                  <p:cNvGrpSpPr/>
                  <p:nvPr/>
                </p:nvGrpSpPr>
                <p:grpSpPr>
                  <a:xfrm>
                    <a:off x="8184960" y="4255920"/>
                    <a:ext cx="258840" cy="623520"/>
                    <a:chOff x="8184960" y="4255920"/>
                    <a:chExt cx="258840" cy="623520"/>
                  </a:xfrm>
                </p:grpSpPr>
                <p:sp>
                  <p:nvSpPr>
                    <p:cNvPr id="120" name="Rectangle 53"/>
                    <p:cNvSpPr/>
                    <p:nvPr/>
                  </p:nvSpPr>
                  <p:spPr>
                    <a:xfrm>
                      <a:off x="8184960" y="444204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54"/>
                    <p:cNvSpPr/>
                    <p:nvPr/>
                  </p:nvSpPr>
                  <p:spPr>
                    <a:xfrm>
                      <a:off x="8314200" y="4255920"/>
                      <a:ext cx="0" cy="185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Rectangle 55"/>
                    <p:cNvSpPr/>
                    <p:nvPr/>
                  </p:nvSpPr>
                  <p:spPr>
                    <a:xfrm>
                      <a:off x="8184960" y="4715280"/>
                      <a:ext cx="258840" cy="164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b6a6a"/>
                        </a:gs>
                        <a:gs pos="50000">
                          <a:srgbClr val="e7e6e6"/>
                        </a:gs>
                        <a:gs pos="100000">
                          <a:srgbClr val="6b6a6a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23" name="Group 25"/>
            <p:cNvGrpSpPr/>
            <p:nvPr/>
          </p:nvGrpSpPr>
          <p:grpSpPr>
            <a:xfrm>
              <a:off x="5580000" y="4221000"/>
              <a:ext cx="3152880" cy="287280"/>
              <a:chOff x="5580000" y="4221000"/>
              <a:chExt cx="3152880" cy="287280"/>
            </a:xfrm>
          </p:grpSpPr>
          <p:grpSp>
            <p:nvGrpSpPr>
              <p:cNvPr id="124" name="Group 59"/>
              <p:cNvGrpSpPr/>
              <p:nvPr/>
            </p:nvGrpSpPr>
            <p:grpSpPr>
              <a:xfrm>
                <a:off x="5580000" y="4221000"/>
                <a:ext cx="3152880" cy="100440"/>
                <a:chOff x="5580000" y="4221000"/>
                <a:chExt cx="3152880" cy="100440"/>
              </a:xfrm>
            </p:grpSpPr>
            <p:sp>
              <p:nvSpPr>
                <p:cNvPr id="125" name="Rectangle 60"/>
                <p:cNvSpPr/>
                <p:nvPr/>
              </p:nvSpPr>
              <p:spPr>
                <a:xfrm>
                  <a:off x="5580000" y="4221000"/>
                  <a:ext cx="3152880" cy="96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61"/>
                <p:cNvSpPr/>
                <p:nvPr/>
              </p:nvSpPr>
              <p:spPr>
                <a:xfrm>
                  <a:off x="6281280" y="422532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>
                  <a:off x="65833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3"/>
                <p:cNvSpPr/>
                <p:nvPr/>
              </p:nvSpPr>
              <p:spPr>
                <a:xfrm>
                  <a:off x="68875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64"/>
                <p:cNvSpPr/>
                <p:nvPr/>
              </p:nvSpPr>
              <p:spPr>
                <a:xfrm>
                  <a:off x="71679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5"/>
                <p:cNvSpPr/>
                <p:nvPr/>
              </p:nvSpPr>
              <p:spPr>
                <a:xfrm>
                  <a:off x="74721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6"/>
                <p:cNvSpPr/>
                <p:nvPr/>
              </p:nvSpPr>
              <p:spPr>
                <a:xfrm>
                  <a:off x="77749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7"/>
                <p:cNvSpPr/>
                <p:nvPr/>
              </p:nvSpPr>
              <p:spPr>
                <a:xfrm>
                  <a:off x="805536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68"/>
                <p:cNvSpPr/>
                <p:nvPr/>
              </p:nvSpPr>
              <p:spPr>
                <a:xfrm>
                  <a:off x="86162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9"/>
                <p:cNvSpPr/>
                <p:nvPr/>
              </p:nvSpPr>
              <p:spPr>
                <a:xfrm>
                  <a:off x="83120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70"/>
                <p:cNvSpPr/>
                <p:nvPr/>
              </p:nvSpPr>
              <p:spPr>
                <a:xfrm>
                  <a:off x="597672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71"/>
                <p:cNvSpPr/>
                <p:nvPr/>
              </p:nvSpPr>
              <p:spPr>
                <a:xfrm>
                  <a:off x="5696640" y="4221000"/>
                  <a:ext cx="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AutoShape 72"/>
              <p:cNvSpPr/>
              <p:nvPr/>
            </p:nvSpPr>
            <p:spPr>
              <a:xfrm>
                <a:off x="7117560" y="4298760"/>
                <a:ext cx="117720" cy="209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56"/>
          <p:cNvGrpSpPr/>
          <p:nvPr/>
        </p:nvGrpSpPr>
        <p:grpSpPr>
          <a:xfrm>
            <a:off x="8172360" y="5157720"/>
            <a:ext cx="273240" cy="314280"/>
            <a:chOff x="8172360" y="5157720"/>
            <a:chExt cx="273240" cy="314280"/>
          </a:xfrm>
        </p:grpSpPr>
        <p:sp>
          <p:nvSpPr>
            <p:cNvPr id="139" name="Line 57"/>
            <p:cNvSpPr/>
            <p:nvPr/>
          </p:nvSpPr>
          <p:spPr>
            <a:xfrm>
              <a:off x="8307360" y="515772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8"/>
            <p:cNvSpPr/>
            <p:nvPr/>
          </p:nvSpPr>
          <p:spPr>
            <a:xfrm>
              <a:off x="8172360" y="5292360"/>
              <a:ext cx="273240" cy="179640"/>
            </a:xfrm>
            <a:prstGeom prst="rect">
              <a:avLst/>
            </a:prstGeom>
            <a:gradFill rotWithShape="0">
              <a:gsLst>
                <a:gs pos="0">
                  <a:srgbClr val="6b6a6a"/>
                </a:gs>
                <a:gs pos="50000">
                  <a:srgbClr val="e7e6e6"/>
                </a:gs>
                <a:gs pos="100000">
                  <a:srgbClr val="6b6a6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765000"/>
            <a:ext cx="40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杠杆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4000" y="1413000"/>
            <a:ext cx="86407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杠杆：动力臂大于阻力臂。省力，但费距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杠杆：动力臂小于阻力臂。省距离，但费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臂杠杆：动力臂等于阻力臂。不省力也不费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755640" y="386064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钓鱼杆、使用筷子、用大扫帚扫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755640" y="2421000"/>
            <a:ext cx="813744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开瓶起子、羊角锤起钉子、剪铁皮的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758880" y="5376960"/>
            <a:ext cx="8101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"/>
              </a:rPr>
              <a:t>例：天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2"/>
          <p:cNvSpPr/>
          <p:nvPr/>
        </p:nvSpPr>
        <p:spPr>
          <a:xfrm>
            <a:off x="395280" y="3807000"/>
            <a:ext cx="5896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动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的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实质是动力臂是阻力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的杠杆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68360" y="1773360"/>
            <a:ext cx="5896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定滑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杠杆示意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滑轮实质是等臂杠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611280" y="907920"/>
            <a:ext cx="2006280" cy="716040"/>
            <a:chOff x="611280" y="907920"/>
            <a:chExt cx="2006280" cy="716040"/>
          </a:xfrm>
        </p:grpSpPr>
        <p:grpSp>
          <p:nvGrpSpPr>
            <p:cNvPr id="149" name="Group 7"/>
            <p:cNvGrpSpPr/>
            <p:nvPr/>
          </p:nvGrpSpPr>
          <p:grpSpPr>
            <a:xfrm>
              <a:off x="611280" y="907920"/>
              <a:ext cx="2006280" cy="716040"/>
              <a:chOff x="611280" y="907920"/>
              <a:chExt cx="2006280" cy="716040"/>
            </a:xfrm>
          </p:grpSpPr>
          <p:pic>
            <p:nvPicPr>
              <p:cNvPr id="150" name="TextBox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907920"/>
                <a:ext cx="200628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9"/>
              <p:cNvSpPr/>
              <p:nvPr/>
            </p:nvSpPr>
            <p:spPr>
              <a:xfrm>
                <a:off x="804240" y="949320"/>
                <a:ext cx="160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0"/>
            <p:cNvSpPr/>
            <p:nvPr/>
          </p:nvSpPr>
          <p:spPr>
            <a:xfrm>
              <a:off x="965160" y="998280"/>
              <a:ext cx="13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滑    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6084720" y="1152360"/>
            <a:ext cx="2160720" cy="2217960"/>
            <a:chOff x="6084720" y="1152360"/>
            <a:chExt cx="2160720" cy="2217960"/>
          </a:xfrm>
        </p:grpSpPr>
        <p:sp>
          <p:nvSpPr>
            <p:cNvPr id="154" name="Text Box 120"/>
            <p:cNvSpPr/>
            <p:nvPr/>
          </p:nvSpPr>
          <p:spPr>
            <a:xfrm>
              <a:off x="7669080" y="286020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3"/>
            <p:cNvGrpSpPr/>
            <p:nvPr/>
          </p:nvGrpSpPr>
          <p:grpSpPr>
            <a:xfrm>
              <a:off x="6084720" y="1152360"/>
              <a:ext cx="1774800" cy="2217960"/>
              <a:chOff x="6084720" y="1152360"/>
              <a:chExt cx="1774800" cy="2217960"/>
            </a:xfrm>
          </p:grpSpPr>
          <p:grpSp>
            <p:nvGrpSpPr>
              <p:cNvPr id="156" name="Group 14"/>
              <p:cNvGrpSpPr/>
              <p:nvPr/>
            </p:nvGrpSpPr>
            <p:grpSpPr>
              <a:xfrm>
                <a:off x="6399000" y="1152360"/>
                <a:ext cx="1395000" cy="1980720"/>
                <a:chOff x="6399000" y="1152360"/>
                <a:chExt cx="1395000" cy="1980720"/>
              </a:xfrm>
            </p:grpSpPr>
            <p:sp>
              <p:nvSpPr>
                <p:cNvPr id="157" name="Oval 67"/>
                <p:cNvSpPr/>
                <p:nvPr/>
              </p:nvSpPr>
              <p:spPr>
                <a:xfrm>
                  <a:off x="6399000" y="1462680"/>
                  <a:ext cx="1395000" cy="1296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68"/>
                <p:cNvSpPr/>
                <p:nvPr/>
              </p:nvSpPr>
              <p:spPr>
                <a:xfrm>
                  <a:off x="6536160" y="1601640"/>
                  <a:ext cx="1120320" cy="1019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69"/>
                <p:cNvSpPr/>
                <p:nvPr/>
              </p:nvSpPr>
              <p:spPr>
                <a:xfrm>
                  <a:off x="7028640" y="1322280"/>
                  <a:ext cx="135360" cy="16459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78"/>
                <p:cNvSpPr/>
                <p:nvPr/>
              </p:nvSpPr>
              <p:spPr>
                <a:xfrm>
                  <a:off x="7055640" y="2065320"/>
                  <a:ext cx="5400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12"/>
                <p:cNvSpPr/>
                <p:nvPr/>
              </p:nvSpPr>
              <p:spPr>
                <a:xfrm>
                  <a:off x="7072560" y="2953080"/>
                  <a:ext cx="10548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12"/>
                <p:cNvSpPr/>
                <p:nvPr/>
              </p:nvSpPr>
              <p:spPr>
                <a:xfrm flipV="1">
                  <a:off x="7025400" y="1152360"/>
                  <a:ext cx="104760" cy="180000"/>
                </a:xfrm>
                <a:custGeom>
                  <a:avLst/>
                  <a:gdLst/>
                  <a:ahLst/>
                  <a:rect l="l" t="t" r="r" b="b"/>
                  <a:pathLst>
                    <a:path w="213" h="300">
                      <a:moveTo>
                        <a:pt x="90" y="0"/>
                      </a:moveTo>
                      <a:cubicBezTo>
                        <a:pt x="114" y="71"/>
                        <a:pt x="47" y="189"/>
                        <a:pt x="145" y="156"/>
                      </a:cubicBezTo>
                      <a:cubicBezTo>
                        <a:pt x="190" y="171"/>
                        <a:pt x="197" y="189"/>
                        <a:pt x="212" y="233"/>
                      </a:cubicBezTo>
                      <a:cubicBezTo>
                        <a:pt x="208" y="248"/>
                        <a:pt x="213" y="268"/>
                        <a:pt x="201" y="278"/>
                      </a:cubicBezTo>
                      <a:cubicBezTo>
                        <a:pt x="183" y="293"/>
                        <a:pt x="134" y="300"/>
                        <a:pt x="134" y="300"/>
                      </a:cubicBezTo>
                      <a:cubicBezTo>
                        <a:pt x="104" y="296"/>
                        <a:pt x="73" y="300"/>
                        <a:pt x="45" y="289"/>
                      </a:cubicBezTo>
                      <a:cubicBezTo>
                        <a:pt x="0" y="271"/>
                        <a:pt x="40" y="239"/>
                        <a:pt x="12" y="267"/>
                      </a:cubicBezTo>
                    </a:path>
                  </a:pathLst>
                </a:custGeom>
                <a:noFill/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7"/>
              <p:cNvSpPr/>
              <p:nvPr/>
            </p:nvSpPr>
            <p:spPr>
              <a:xfrm>
                <a:off x="639900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18"/>
              <p:cNvSpPr/>
              <p:nvPr/>
            </p:nvSpPr>
            <p:spPr>
              <a:xfrm>
                <a:off x="6084720" y="2860200"/>
                <a:ext cx="79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19"/>
              <p:cNvSpPr/>
              <p:nvPr/>
            </p:nvSpPr>
            <p:spPr>
              <a:xfrm>
                <a:off x="7794360" y="2096640"/>
                <a:ext cx="0" cy="866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  <a:headEnd len="sm" type="oval" w="sm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22"/>
              <p:cNvSpPr/>
              <p:nvPr/>
            </p:nvSpPr>
            <p:spPr>
              <a:xfrm rot="16200000">
                <a:off x="6665040" y="1895760"/>
                <a:ext cx="142920" cy="60156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15480 h 601560"/>
                  <a:gd name="textAreaBottom" fmla="*/ 586080 h 60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7"/>
                      <a:pt x="10800" y="1794"/>
                    </a:cubicBezTo>
                    <a:lnTo>
                      <a:pt x="10800" y="10355"/>
                    </a:lnTo>
                    <a:cubicBezTo>
                      <a:pt x="10800" y="11252"/>
                      <a:pt x="5400" y="12149"/>
                      <a:pt x="0" y="12149"/>
                    </a:cubicBezTo>
                    <a:cubicBezTo>
                      <a:pt x="5400" y="12149"/>
                      <a:pt x="10800" y="13046"/>
                      <a:pt x="10800" y="13943"/>
                    </a:cubicBezTo>
                    <a:lnTo>
                      <a:pt x="10800" y="19806"/>
                    </a:lnTo>
                    <a:cubicBezTo>
                      <a:pt x="10800" y="20703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23"/>
              <p:cNvSpPr/>
              <p:nvPr/>
            </p:nvSpPr>
            <p:spPr>
              <a:xfrm>
                <a:off x="6678360" y="223344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26"/>
              <p:cNvSpPr/>
              <p:nvPr/>
            </p:nvSpPr>
            <p:spPr>
              <a:xfrm>
                <a:off x="7283160" y="2180880"/>
                <a:ext cx="576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16"/>
              <p:cNvSpPr/>
              <p:nvPr/>
            </p:nvSpPr>
            <p:spPr>
              <a:xfrm>
                <a:off x="7075440" y="164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rot="16200000">
                <a:off x="7360200" y="1843560"/>
                <a:ext cx="142920" cy="70632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18360 h 706320"/>
                  <a:gd name="textAreaBottom" fmla="*/ 68796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7"/>
                      <a:pt x="10800" y="1794"/>
                    </a:cubicBezTo>
                    <a:lnTo>
                      <a:pt x="10800" y="9006"/>
                    </a:lnTo>
                    <a:cubicBezTo>
                      <a:pt x="10800" y="9903"/>
                      <a:pt x="16200" y="10800"/>
                      <a:pt x="21600" y="10800"/>
                    </a:cubicBezTo>
                    <a:cubicBezTo>
                      <a:pt x="16200" y="10800"/>
                      <a:pt x="10800" y="11697"/>
                      <a:pt x="10800" y="12594"/>
                    </a:cubicBezTo>
                    <a:lnTo>
                      <a:pt x="10800" y="19806"/>
                    </a:lnTo>
                    <a:cubicBezTo>
                      <a:pt x="10800" y="20703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9"/>
              <p:cNvSpPr/>
              <p:nvPr/>
            </p:nvSpPr>
            <p:spPr>
              <a:xfrm>
                <a:off x="6443640" y="2098440"/>
                <a:ext cx="13507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0"/>
              <p:cNvSpPr/>
              <p:nvPr/>
            </p:nvSpPr>
            <p:spPr>
              <a:xfrm>
                <a:off x="6580080" y="1198080"/>
                <a:ext cx="1035000" cy="0"/>
              </a:xfrm>
              <a:prstGeom prst="line">
                <a:avLst/>
              </a:prstGeom>
              <a:ln w="57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31"/>
          <p:cNvGrpSpPr/>
          <p:nvPr/>
        </p:nvGrpSpPr>
        <p:grpSpPr>
          <a:xfrm>
            <a:off x="6084720" y="3537000"/>
            <a:ext cx="2287800" cy="3060360"/>
            <a:chOff x="6084720" y="3537000"/>
            <a:chExt cx="2287800" cy="3060360"/>
          </a:xfrm>
        </p:grpSpPr>
        <p:grpSp>
          <p:nvGrpSpPr>
            <p:cNvPr id="174" name="Group 32"/>
            <p:cNvGrpSpPr/>
            <p:nvPr/>
          </p:nvGrpSpPr>
          <p:grpSpPr>
            <a:xfrm>
              <a:off x="6084720" y="3537000"/>
              <a:ext cx="1440000" cy="3060360"/>
              <a:chOff x="6084720" y="3537000"/>
              <a:chExt cx="1440000" cy="3060360"/>
            </a:xfrm>
          </p:grpSpPr>
          <p:sp>
            <p:nvSpPr>
              <p:cNvPr id="175" name="Line 33"/>
              <p:cNvSpPr/>
              <p:nvPr/>
            </p:nvSpPr>
            <p:spPr>
              <a:xfrm flipV="1">
                <a:off x="6535800" y="3627720"/>
                <a:ext cx="0" cy="12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151"/>
              <p:cNvGrpSpPr/>
              <p:nvPr/>
            </p:nvGrpSpPr>
            <p:grpSpPr>
              <a:xfrm>
                <a:off x="6084720" y="3537000"/>
                <a:ext cx="931680" cy="90720"/>
                <a:chOff x="6084720" y="3537000"/>
                <a:chExt cx="931680" cy="90720"/>
              </a:xfrm>
            </p:grpSpPr>
            <p:sp>
              <p:nvSpPr>
                <p:cNvPr id="177" name="Rectangle 152"/>
                <p:cNvSpPr/>
                <p:nvPr/>
              </p:nvSpPr>
              <p:spPr>
                <a:xfrm>
                  <a:off x="6091200" y="3537000"/>
                  <a:ext cx="925200" cy="820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53"/>
                <p:cNvSpPr/>
                <p:nvPr/>
              </p:nvSpPr>
              <p:spPr>
                <a:xfrm>
                  <a:off x="6084720" y="3627720"/>
                  <a:ext cx="915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37"/>
              <p:cNvGrpSpPr/>
              <p:nvPr/>
            </p:nvGrpSpPr>
            <p:grpSpPr>
              <a:xfrm>
                <a:off x="7031160" y="5942160"/>
                <a:ext cx="493560" cy="655200"/>
                <a:chOff x="7031160" y="5942160"/>
                <a:chExt cx="493560" cy="655200"/>
              </a:xfrm>
            </p:grpSpPr>
            <p:sp>
              <p:nvSpPr>
                <p:cNvPr id="180" name="Line 38"/>
                <p:cNvSpPr/>
                <p:nvPr/>
              </p:nvSpPr>
              <p:spPr>
                <a:xfrm flipV="1">
                  <a:off x="7260840" y="5942160"/>
                  <a:ext cx="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39"/>
                <p:cNvSpPr/>
                <p:nvPr/>
              </p:nvSpPr>
              <p:spPr>
                <a:xfrm>
                  <a:off x="7031160" y="6206400"/>
                  <a:ext cx="493560" cy="390960"/>
                </a:xfrm>
                <a:prstGeom prst="rect">
                  <a:avLst/>
                </a:prstGeom>
                <a:noFill/>
                <a:ln w="19080">
                  <a:solidFill>
                    <a:srgbClr val="4d4d4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40"/>
            <p:cNvGrpSpPr/>
            <p:nvPr/>
          </p:nvGrpSpPr>
          <p:grpSpPr>
            <a:xfrm>
              <a:off x="6130800" y="3862440"/>
              <a:ext cx="2241720" cy="2534400"/>
              <a:chOff x="6130800" y="3862440"/>
              <a:chExt cx="2241720" cy="2534400"/>
            </a:xfrm>
          </p:grpSpPr>
          <p:sp>
            <p:nvSpPr>
              <p:cNvPr id="183" name="Text Box 120"/>
              <p:cNvSpPr/>
              <p:nvPr/>
            </p:nvSpPr>
            <p:spPr>
              <a:xfrm>
                <a:off x="7796160" y="3862440"/>
                <a:ext cx="57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42"/>
              <p:cNvGrpSpPr/>
              <p:nvPr/>
            </p:nvGrpSpPr>
            <p:grpSpPr>
              <a:xfrm>
                <a:off x="6130800" y="3951360"/>
                <a:ext cx="1827360" cy="2445480"/>
                <a:chOff x="6130800" y="3951360"/>
                <a:chExt cx="1827360" cy="2445480"/>
              </a:xfrm>
            </p:grpSpPr>
            <p:grpSp>
              <p:nvGrpSpPr>
                <p:cNvPr id="185" name="Group 43"/>
                <p:cNvGrpSpPr/>
                <p:nvPr/>
              </p:nvGrpSpPr>
              <p:grpSpPr>
                <a:xfrm>
                  <a:off x="6534000" y="3951360"/>
                  <a:ext cx="1395000" cy="1981080"/>
                  <a:chOff x="6534000" y="3951360"/>
                  <a:chExt cx="1395000" cy="1981080"/>
                </a:xfrm>
              </p:grpSpPr>
              <p:sp>
                <p:nvSpPr>
                  <p:cNvPr id="186" name="Oval 67"/>
                  <p:cNvSpPr/>
                  <p:nvPr/>
                </p:nvSpPr>
                <p:spPr>
                  <a:xfrm>
                    <a:off x="6534000" y="4262040"/>
                    <a:ext cx="1395000" cy="129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68"/>
                  <p:cNvSpPr/>
                  <p:nvPr/>
                </p:nvSpPr>
                <p:spPr>
                  <a:xfrm>
                    <a:off x="6671160" y="4401000"/>
                    <a:ext cx="1120320" cy="101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69"/>
                  <p:cNvSpPr/>
                  <p:nvPr/>
                </p:nvSpPr>
                <p:spPr>
                  <a:xfrm>
                    <a:off x="7163640" y="4121280"/>
                    <a:ext cx="135360" cy="1646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Oval 78"/>
                  <p:cNvSpPr/>
                  <p:nvPr/>
                </p:nvSpPr>
                <p:spPr>
                  <a:xfrm>
                    <a:off x="7190640" y="4864680"/>
                    <a:ext cx="5400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12"/>
                  <p:cNvSpPr/>
                  <p:nvPr/>
                </p:nvSpPr>
                <p:spPr>
                  <a:xfrm>
                    <a:off x="7207560" y="5752440"/>
                    <a:ext cx="1054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2"/>
                  <p:cNvSpPr/>
                  <p:nvPr/>
                </p:nvSpPr>
                <p:spPr>
                  <a:xfrm flipV="1">
                    <a:off x="7160400" y="3951360"/>
                    <a:ext cx="10476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00">
                        <a:moveTo>
                          <a:pt x="90" y="0"/>
                        </a:moveTo>
                        <a:cubicBezTo>
                          <a:pt x="114" y="71"/>
                          <a:pt x="47" y="189"/>
                          <a:pt x="145" y="156"/>
                        </a:cubicBezTo>
                        <a:cubicBezTo>
                          <a:pt x="190" y="171"/>
                          <a:pt x="197" y="189"/>
                          <a:pt x="212" y="233"/>
                        </a:cubicBezTo>
                        <a:cubicBezTo>
                          <a:pt x="208" y="248"/>
                          <a:pt x="213" y="268"/>
                          <a:pt x="201" y="278"/>
                        </a:cubicBezTo>
                        <a:cubicBezTo>
                          <a:pt x="183" y="293"/>
                          <a:pt x="134" y="300"/>
                          <a:pt x="134" y="300"/>
                        </a:cubicBezTo>
                        <a:cubicBezTo>
                          <a:pt x="104" y="296"/>
                          <a:pt x="73" y="300"/>
                          <a:pt x="45" y="289"/>
                        </a:cubicBezTo>
                        <a:cubicBezTo>
                          <a:pt x="0" y="271"/>
                          <a:pt x="40" y="239"/>
                          <a:pt x="12" y="2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Line 117"/>
                <p:cNvSpPr/>
                <p:nvPr/>
              </p:nvSpPr>
              <p:spPr>
                <a:xfrm flipV="1">
                  <a:off x="7931160" y="4311720"/>
                  <a:ext cx="0" cy="5968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118"/>
                <p:cNvSpPr/>
                <p:nvPr/>
              </p:nvSpPr>
              <p:spPr>
                <a:xfrm>
                  <a:off x="7165800" y="5886720"/>
                  <a:ext cx="792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9"/>
                <p:cNvSpPr/>
                <p:nvPr/>
              </p:nvSpPr>
              <p:spPr>
                <a:xfrm>
                  <a:off x="7210440" y="4851720"/>
                  <a:ext cx="0" cy="1170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round/>
                  <a:headEnd len="sm" type="oval" w="sm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22"/>
                <p:cNvSpPr/>
                <p:nvPr/>
              </p:nvSpPr>
              <p:spPr>
                <a:xfrm rot="16200000">
                  <a:off x="6800040" y="4694760"/>
                  <a:ext cx="142920" cy="601560"/>
                </a:xfrm>
                <a:custGeom>
                  <a:avLst/>
                  <a:gdLst>
                    <a:gd name="textAreaLeft" fmla="*/ 91440 w 142920"/>
                    <a:gd name="textAreaRight" fmla="*/ 143280 w 142920"/>
                    <a:gd name="textAreaTop" fmla="*/ 15480 h 601560"/>
                    <a:gd name="textAreaBottom" fmla="*/ 586080 h 601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7"/>
                        <a:pt x="10800" y="1794"/>
                      </a:cubicBezTo>
                      <a:lnTo>
                        <a:pt x="10800" y="10355"/>
                      </a:lnTo>
                      <a:cubicBezTo>
                        <a:pt x="10800" y="11252"/>
                        <a:pt x="5400" y="12149"/>
                        <a:pt x="0" y="12149"/>
                      </a:cubicBezTo>
                      <a:cubicBezTo>
                        <a:pt x="5400" y="12149"/>
                        <a:pt x="10800" y="13046"/>
                        <a:pt x="10800" y="13943"/>
                      </a:cubicBezTo>
                      <a:lnTo>
                        <a:pt x="10800" y="19806"/>
                      </a:lnTo>
                      <a:cubicBezTo>
                        <a:pt x="10800" y="20703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123"/>
                <p:cNvSpPr/>
                <p:nvPr/>
              </p:nvSpPr>
              <p:spPr>
                <a:xfrm>
                  <a:off x="6761160" y="498636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26"/>
                <p:cNvSpPr/>
                <p:nvPr/>
              </p:nvSpPr>
              <p:spPr>
                <a:xfrm>
                  <a:off x="7219800" y="4243680"/>
                  <a:ext cx="576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l</a:t>
                  </a:r>
                  <a:r>
                    <a:rPr b="1" lang="en-US" sz="2800" spc="-1" strike="noStrike" baseline="-25000">
                      <a:solidFill>
                        <a:srgbClr val="cc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16"/>
                <p:cNvSpPr/>
                <p:nvPr/>
              </p:nvSpPr>
              <p:spPr>
                <a:xfrm>
                  <a:off x="6130800" y="4446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25"/>
                <p:cNvSpPr/>
                <p:nvPr/>
              </p:nvSpPr>
              <p:spPr>
                <a:xfrm flipH="1" flipV="1" rot="5400000">
                  <a:off x="7111080" y="4077720"/>
                  <a:ext cx="179280" cy="1349280"/>
                </a:xfrm>
                <a:custGeom>
                  <a:avLst/>
                  <a:gdLst>
                    <a:gd name="textAreaLeft" fmla="*/ 0 w 179280"/>
                    <a:gd name="textAreaRight" fmla="*/ 64800 w 179280"/>
                    <a:gd name="textAreaTop" fmla="*/ 34920 h 1349280"/>
                    <a:gd name="textAreaBottom" fmla="*/ 1314360 h 1349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897"/>
                        <a:pt x="10800" y="1794"/>
                      </a:cubicBezTo>
                      <a:lnTo>
                        <a:pt x="10800" y="9006"/>
                      </a:lnTo>
                      <a:cubicBezTo>
                        <a:pt x="10800" y="9903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697"/>
                        <a:pt x="10800" y="12594"/>
                      </a:cubicBezTo>
                      <a:lnTo>
                        <a:pt x="10800" y="19806"/>
                      </a:lnTo>
                      <a:cubicBezTo>
                        <a:pt x="10800" y="20703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58"/>
                <p:cNvSpPr/>
                <p:nvPr/>
              </p:nvSpPr>
              <p:spPr>
                <a:xfrm>
                  <a:off x="6535800" y="4897440"/>
                  <a:ext cx="13935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dash"/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566640" y="1089000"/>
            <a:ext cx="6391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滑轮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大小与重力大小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滑轮和重物由几段绳子承重，拉力就是总重的几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拉力与重物移动距离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绳子自由端移动的距离是重物移动距离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　　　　　　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bject 4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2792520" cy="9921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7343640" y="1773360"/>
            <a:ext cx="648000" cy="3339720"/>
            <a:chOff x="7343640" y="1773360"/>
            <a:chExt cx="648000" cy="3339720"/>
          </a:xfrm>
        </p:grpSpPr>
        <p:grpSp>
          <p:nvGrpSpPr>
            <p:cNvPr id="204" name="Group 6"/>
            <p:cNvGrpSpPr/>
            <p:nvPr/>
          </p:nvGrpSpPr>
          <p:grpSpPr>
            <a:xfrm>
              <a:off x="7488360" y="4438800"/>
              <a:ext cx="433440" cy="674280"/>
              <a:chOff x="7488360" y="4438800"/>
              <a:chExt cx="433440" cy="674280"/>
            </a:xfrm>
          </p:grpSpPr>
          <p:grpSp>
            <p:nvGrpSpPr>
              <p:cNvPr id="205" name="Group 7"/>
              <p:cNvGrpSpPr/>
              <p:nvPr/>
            </p:nvGrpSpPr>
            <p:grpSpPr>
              <a:xfrm>
                <a:off x="7488360" y="4573440"/>
                <a:ext cx="433440" cy="539640"/>
                <a:chOff x="7488360" y="4573440"/>
                <a:chExt cx="433440" cy="539640"/>
              </a:xfrm>
            </p:grpSpPr>
            <p:sp>
              <p:nvSpPr>
                <p:cNvPr id="206" name="Freeform 169"/>
                <p:cNvSpPr/>
                <p:nvPr/>
              </p:nvSpPr>
              <p:spPr>
                <a:xfrm flipH="1" flipV="1">
                  <a:off x="7630560" y="4573080"/>
                  <a:ext cx="102240" cy="115560"/>
                </a:xfrm>
                <a:custGeom>
                  <a:avLst/>
                  <a:gdLst/>
                  <a:ahLst/>
                  <a:rect l="l" t="t" r="r" b="b"/>
                  <a:pathLst>
                    <a:path w="2020" h="2594">
                      <a:moveTo>
                        <a:pt x="472" y="15"/>
                      </a:moveTo>
                      <a:cubicBezTo>
                        <a:pt x="472" y="107"/>
                        <a:pt x="477" y="387"/>
                        <a:pt x="472" y="552"/>
                      </a:cubicBezTo>
                      <a:cubicBezTo>
                        <a:pt x="467" y="717"/>
                        <a:pt x="480" y="887"/>
                        <a:pt x="442" y="1005"/>
                      </a:cubicBezTo>
                      <a:cubicBezTo>
                        <a:pt x="404" y="1123"/>
                        <a:pt x="302" y="1180"/>
                        <a:pt x="247" y="1260"/>
                      </a:cubicBezTo>
                      <a:cubicBezTo>
                        <a:pt x="192" y="1340"/>
                        <a:pt x="152" y="1398"/>
                        <a:pt x="112" y="1488"/>
                      </a:cubicBezTo>
                      <a:cubicBezTo>
                        <a:pt x="72" y="1578"/>
                        <a:pt x="14" y="1706"/>
                        <a:pt x="7" y="1800"/>
                      </a:cubicBezTo>
                      <a:cubicBezTo>
                        <a:pt x="0" y="1894"/>
                        <a:pt x="25" y="1968"/>
                        <a:pt x="67" y="2055"/>
                      </a:cubicBezTo>
                      <a:cubicBezTo>
                        <a:pt x="109" y="2142"/>
                        <a:pt x="165" y="2245"/>
                        <a:pt x="262" y="2325"/>
                      </a:cubicBezTo>
                      <a:cubicBezTo>
                        <a:pt x="359" y="2405"/>
                        <a:pt x="515" y="2498"/>
                        <a:pt x="652" y="2535"/>
                      </a:cubicBezTo>
                      <a:cubicBezTo>
                        <a:pt x="789" y="2572"/>
                        <a:pt x="937" y="2594"/>
                        <a:pt x="1087" y="2550"/>
                      </a:cubicBezTo>
                      <a:cubicBezTo>
                        <a:pt x="1237" y="2506"/>
                        <a:pt x="1440" y="2366"/>
                        <a:pt x="1552" y="2268"/>
                      </a:cubicBezTo>
                      <a:cubicBezTo>
                        <a:pt x="1664" y="2170"/>
                        <a:pt x="1702" y="2069"/>
                        <a:pt x="1762" y="1965"/>
                      </a:cubicBezTo>
                      <a:cubicBezTo>
                        <a:pt x="1822" y="1861"/>
                        <a:pt x="1872" y="1759"/>
                        <a:pt x="1912" y="1644"/>
                      </a:cubicBezTo>
                      <a:cubicBezTo>
                        <a:pt x="1952" y="1529"/>
                        <a:pt x="2020" y="1309"/>
                        <a:pt x="2002" y="1275"/>
                      </a:cubicBezTo>
                      <a:cubicBezTo>
                        <a:pt x="1984" y="1241"/>
                        <a:pt x="1874" y="1355"/>
                        <a:pt x="1807" y="1440"/>
                      </a:cubicBezTo>
                      <a:cubicBezTo>
                        <a:pt x="1740" y="1525"/>
                        <a:pt x="1669" y="1690"/>
                        <a:pt x="1597" y="1785"/>
                      </a:cubicBezTo>
                      <a:cubicBezTo>
                        <a:pt x="1525" y="1880"/>
                        <a:pt x="1442" y="1953"/>
                        <a:pt x="1372" y="2010"/>
                      </a:cubicBezTo>
                      <a:cubicBezTo>
                        <a:pt x="1302" y="2067"/>
                        <a:pt x="1257" y="2113"/>
                        <a:pt x="1177" y="2130"/>
                      </a:cubicBezTo>
                      <a:cubicBezTo>
                        <a:pt x="1097" y="2147"/>
                        <a:pt x="982" y="2147"/>
                        <a:pt x="892" y="2115"/>
                      </a:cubicBezTo>
                      <a:cubicBezTo>
                        <a:pt x="802" y="2083"/>
                        <a:pt x="677" y="2022"/>
                        <a:pt x="637" y="1935"/>
                      </a:cubicBezTo>
                      <a:cubicBezTo>
                        <a:pt x="597" y="1848"/>
                        <a:pt x="612" y="1702"/>
                        <a:pt x="652" y="1590"/>
                      </a:cubicBezTo>
                      <a:cubicBezTo>
                        <a:pt x="692" y="1478"/>
                        <a:pt x="817" y="1355"/>
                        <a:pt x="877" y="1260"/>
                      </a:cubicBezTo>
                      <a:cubicBezTo>
                        <a:pt x="937" y="1165"/>
                        <a:pt x="990" y="1112"/>
                        <a:pt x="1012" y="1020"/>
                      </a:cubicBezTo>
                      <a:cubicBezTo>
                        <a:pt x="1034" y="928"/>
                        <a:pt x="1012" y="786"/>
                        <a:pt x="1012" y="708"/>
                      </a:cubicBezTo>
                      <a:cubicBezTo>
                        <a:pt x="1012" y="630"/>
                        <a:pt x="1012" y="670"/>
                        <a:pt x="1012" y="552"/>
                      </a:cubicBezTo>
                      <a:cubicBezTo>
                        <a:pt x="1012" y="434"/>
                        <a:pt x="1012" y="115"/>
                        <a:pt x="1012" y="0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170"/>
                <p:cNvSpPr/>
                <p:nvPr/>
              </p:nvSpPr>
              <p:spPr>
                <a:xfrm>
                  <a:off x="7488360" y="4697280"/>
                  <a:ext cx="433440" cy="41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c0c0c0"/>
                    </a:gs>
                    <a:gs pos="100000">
                      <a:srgbClr val="333333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Line 10"/>
              <p:cNvSpPr/>
              <p:nvPr/>
            </p:nvSpPr>
            <p:spPr>
              <a:xfrm>
                <a:off x="7694640" y="4438800"/>
                <a:ext cx="0" cy="179280"/>
              </a:xfrm>
              <a:prstGeom prst="line">
                <a:avLst/>
              </a:prstGeom>
              <a:ln w="284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1"/>
            <p:cNvGrpSpPr/>
            <p:nvPr/>
          </p:nvGrpSpPr>
          <p:grpSpPr>
            <a:xfrm>
              <a:off x="7343640" y="1773360"/>
              <a:ext cx="648000" cy="2701800"/>
              <a:chOff x="7343640" y="1773360"/>
              <a:chExt cx="648000" cy="2701800"/>
            </a:xfrm>
          </p:grpSpPr>
          <p:sp>
            <p:nvSpPr>
              <p:cNvPr id="210" name="Line 164"/>
              <p:cNvSpPr/>
              <p:nvPr/>
            </p:nvSpPr>
            <p:spPr>
              <a:xfrm>
                <a:off x="7451640" y="3214800"/>
                <a:ext cx="1800" cy="82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65"/>
              <p:cNvSpPr/>
              <p:nvPr/>
            </p:nvSpPr>
            <p:spPr>
              <a:xfrm flipH="1">
                <a:off x="7919640" y="2314800"/>
                <a:ext cx="972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66"/>
              <p:cNvSpPr/>
              <p:nvPr/>
            </p:nvSpPr>
            <p:spPr>
              <a:xfrm>
                <a:off x="7451640" y="2314800"/>
                <a:ext cx="241560" cy="127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15"/>
              <p:cNvGrpSpPr/>
              <p:nvPr/>
            </p:nvGrpSpPr>
            <p:grpSpPr>
              <a:xfrm>
                <a:off x="7343640" y="1773360"/>
                <a:ext cx="648000" cy="1044000"/>
                <a:chOff x="7343640" y="1773360"/>
                <a:chExt cx="648000" cy="1044000"/>
              </a:xfrm>
            </p:grpSpPr>
            <p:grpSp>
              <p:nvGrpSpPr>
                <p:cNvPr id="214" name="Group 16"/>
                <p:cNvGrpSpPr/>
                <p:nvPr/>
              </p:nvGrpSpPr>
              <p:grpSpPr>
                <a:xfrm>
                  <a:off x="7436160" y="1837440"/>
                  <a:ext cx="524160" cy="979920"/>
                  <a:chOff x="7436160" y="1837440"/>
                  <a:chExt cx="524160" cy="979920"/>
                </a:xfrm>
              </p:grpSpPr>
              <p:grpSp>
                <p:nvGrpSpPr>
                  <p:cNvPr id="215" name="Group 17"/>
                  <p:cNvGrpSpPr/>
                  <p:nvPr/>
                </p:nvGrpSpPr>
                <p:grpSpPr>
                  <a:xfrm>
                    <a:off x="7436160" y="2072160"/>
                    <a:ext cx="524160" cy="498600"/>
                    <a:chOff x="7436160" y="2072160"/>
                    <a:chExt cx="524160" cy="498600"/>
                  </a:xfrm>
                </p:grpSpPr>
                <p:sp>
                  <p:nvSpPr>
                    <p:cNvPr id="216" name="Oval 18"/>
                    <p:cNvSpPr/>
                    <p:nvPr/>
                  </p:nvSpPr>
                  <p:spPr>
                    <a:xfrm>
                      <a:off x="7436160" y="2072160"/>
                      <a:ext cx="524160" cy="498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19"/>
                    <p:cNvSpPr/>
                    <p:nvPr/>
                  </p:nvSpPr>
                  <p:spPr>
                    <a:xfrm>
                      <a:off x="7508880" y="2141280"/>
                      <a:ext cx="378720" cy="36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Oval 20"/>
                    <p:cNvSpPr/>
                    <p:nvPr/>
                  </p:nvSpPr>
                  <p:spPr>
                    <a:xfrm>
                      <a:off x="7581600" y="2210400"/>
                      <a:ext cx="232920" cy="221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Oval 21"/>
                    <p:cNvSpPr/>
                    <p:nvPr/>
                  </p:nvSpPr>
                  <p:spPr>
                    <a:xfrm>
                      <a:off x="7654680" y="2279880"/>
                      <a:ext cx="87120" cy="83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Group 22"/>
                  <p:cNvGrpSpPr/>
                  <p:nvPr/>
                </p:nvGrpSpPr>
                <p:grpSpPr>
                  <a:xfrm>
                    <a:off x="7607880" y="1837440"/>
                    <a:ext cx="176760" cy="979920"/>
                    <a:chOff x="7607880" y="1837440"/>
                    <a:chExt cx="176760" cy="979920"/>
                  </a:xfrm>
                </p:grpSpPr>
                <p:sp>
                  <p:nvSpPr>
                    <p:cNvPr id="221" name="Freeform 23"/>
                    <p:cNvSpPr/>
                    <p:nvPr/>
                  </p:nvSpPr>
                  <p:spPr>
                    <a:xfrm>
                      <a:off x="7657560" y="26942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2" name="Group 24"/>
                    <p:cNvGrpSpPr/>
                    <p:nvPr/>
                  </p:nvGrpSpPr>
                  <p:grpSpPr>
                    <a:xfrm>
                      <a:off x="7607880" y="1943640"/>
                      <a:ext cx="176760" cy="757080"/>
                      <a:chOff x="7607880" y="1943640"/>
                      <a:chExt cx="176760" cy="757080"/>
                    </a:xfrm>
                  </p:grpSpPr>
                  <p:sp>
                    <p:nvSpPr>
                      <p:cNvPr id="223" name="AutoShape 25"/>
                      <p:cNvSpPr/>
                      <p:nvPr/>
                    </p:nvSpPr>
                    <p:spPr>
                      <a:xfrm>
                        <a:off x="7607880" y="232056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AutoShape 26"/>
                      <p:cNvSpPr/>
                      <p:nvPr/>
                    </p:nvSpPr>
                    <p:spPr>
                      <a:xfrm flipV="1">
                        <a:off x="7607880" y="1943640"/>
                        <a:ext cx="176760" cy="38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5" name="Oval 27"/>
                    <p:cNvSpPr/>
                    <p:nvPr/>
                  </p:nvSpPr>
                  <p:spPr>
                    <a:xfrm>
                      <a:off x="7669440" y="229392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Oval 28"/>
                    <p:cNvSpPr/>
                    <p:nvPr/>
                  </p:nvSpPr>
                  <p:spPr>
                    <a:xfrm>
                      <a:off x="7662600" y="263016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29"/>
                    <p:cNvSpPr/>
                    <p:nvPr/>
                  </p:nvSpPr>
                  <p:spPr>
                    <a:xfrm flipH="1" flipV="1">
                      <a:off x="7630200" y="1837440"/>
                      <a:ext cx="10440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Oval 30"/>
                    <p:cNvSpPr/>
                    <p:nvPr/>
                  </p:nvSpPr>
                  <p:spPr>
                    <a:xfrm>
                      <a:off x="7662960" y="1950480"/>
                      <a:ext cx="6156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" name="Group 31"/>
                <p:cNvGrpSpPr/>
                <p:nvPr/>
              </p:nvGrpSpPr>
              <p:grpSpPr>
                <a:xfrm>
                  <a:off x="7343640" y="1773360"/>
                  <a:ext cx="648000" cy="94680"/>
                  <a:chOff x="7343640" y="1773360"/>
                  <a:chExt cx="648000" cy="94680"/>
                </a:xfrm>
              </p:grpSpPr>
              <p:sp>
                <p:nvSpPr>
                  <p:cNvPr id="230" name="Rectangle 32"/>
                  <p:cNvSpPr/>
                  <p:nvPr/>
                </p:nvSpPr>
                <p:spPr>
                  <a:xfrm>
                    <a:off x="7343640" y="1773360"/>
                    <a:ext cx="613080" cy="9468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3"/>
                  <p:cNvSpPr/>
                  <p:nvPr/>
                </p:nvSpPr>
                <p:spPr>
                  <a:xfrm>
                    <a:off x="7343640" y="1868040"/>
                    <a:ext cx="6480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Group 34"/>
              <p:cNvGrpSpPr/>
              <p:nvPr/>
            </p:nvGrpSpPr>
            <p:grpSpPr>
              <a:xfrm>
                <a:off x="7451640" y="3538440"/>
                <a:ext cx="505080" cy="936720"/>
                <a:chOff x="7451640" y="3538440"/>
                <a:chExt cx="505080" cy="936720"/>
              </a:xfrm>
            </p:grpSpPr>
            <p:grpSp>
              <p:nvGrpSpPr>
                <p:cNvPr id="233" name="Group 35"/>
                <p:cNvGrpSpPr/>
                <p:nvPr/>
              </p:nvGrpSpPr>
              <p:grpSpPr>
                <a:xfrm>
                  <a:off x="7451640" y="3763080"/>
                  <a:ext cx="505080" cy="476280"/>
                  <a:chOff x="7451640" y="3763080"/>
                  <a:chExt cx="505080" cy="476280"/>
                </a:xfrm>
              </p:grpSpPr>
              <p:sp>
                <p:nvSpPr>
                  <p:cNvPr id="234" name="Oval 36"/>
                  <p:cNvSpPr/>
                  <p:nvPr/>
                </p:nvSpPr>
                <p:spPr>
                  <a:xfrm>
                    <a:off x="7451640" y="3763080"/>
                    <a:ext cx="505080" cy="476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37"/>
                  <p:cNvSpPr/>
                  <p:nvPr/>
                </p:nvSpPr>
                <p:spPr>
                  <a:xfrm>
                    <a:off x="7521480" y="3828960"/>
                    <a:ext cx="364680" cy="34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38"/>
                  <p:cNvSpPr/>
                  <p:nvPr/>
                </p:nvSpPr>
                <p:spPr>
                  <a:xfrm>
                    <a:off x="7591680" y="3895200"/>
                    <a:ext cx="224280" cy="211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39"/>
                  <p:cNvSpPr/>
                  <p:nvPr/>
                </p:nvSpPr>
                <p:spPr>
                  <a:xfrm>
                    <a:off x="7661880" y="3961440"/>
                    <a:ext cx="84240" cy="792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40"/>
                <p:cNvGrpSpPr/>
                <p:nvPr/>
              </p:nvGrpSpPr>
              <p:grpSpPr>
                <a:xfrm>
                  <a:off x="7617240" y="3538440"/>
                  <a:ext cx="170640" cy="936720"/>
                  <a:chOff x="7617240" y="3538440"/>
                  <a:chExt cx="170640" cy="936720"/>
                </a:xfrm>
              </p:grpSpPr>
              <p:sp>
                <p:nvSpPr>
                  <p:cNvPr id="239" name="Freeform 41"/>
                  <p:cNvSpPr/>
                  <p:nvPr/>
                </p:nvSpPr>
                <p:spPr>
                  <a:xfrm>
                    <a:off x="7665120" y="435744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0" name="Group 42"/>
                  <p:cNvGrpSpPr/>
                  <p:nvPr/>
                </p:nvGrpSpPr>
                <p:grpSpPr>
                  <a:xfrm>
                    <a:off x="7617240" y="3639960"/>
                    <a:ext cx="170640" cy="723600"/>
                    <a:chOff x="7617240" y="3639960"/>
                    <a:chExt cx="170640" cy="723600"/>
                  </a:xfrm>
                </p:grpSpPr>
                <p:sp>
                  <p:nvSpPr>
                    <p:cNvPr id="241" name="AutoShape 43"/>
                    <p:cNvSpPr/>
                    <p:nvPr/>
                  </p:nvSpPr>
                  <p:spPr>
                    <a:xfrm>
                      <a:off x="7617240" y="400032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44"/>
                    <p:cNvSpPr/>
                    <p:nvPr/>
                  </p:nvSpPr>
                  <p:spPr>
                    <a:xfrm flipV="1">
                      <a:off x="7617240" y="3639600"/>
                      <a:ext cx="1706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45"/>
                  <p:cNvSpPr/>
                  <p:nvPr/>
                </p:nvSpPr>
                <p:spPr>
                  <a:xfrm>
                    <a:off x="7676640" y="397476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46"/>
                  <p:cNvSpPr/>
                  <p:nvPr/>
                </p:nvSpPr>
                <p:spPr>
                  <a:xfrm>
                    <a:off x="7670160" y="429588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47"/>
                  <p:cNvSpPr/>
                  <p:nvPr/>
                </p:nvSpPr>
                <p:spPr>
                  <a:xfrm flipH="1" flipV="1">
                    <a:off x="7638480" y="3538080"/>
                    <a:ext cx="1008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Oval 48"/>
                  <p:cNvSpPr/>
                  <p:nvPr/>
                </p:nvSpPr>
                <p:spPr>
                  <a:xfrm>
                    <a:off x="7670520" y="3646800"/>
                    <a:ext cx="594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 flipH="1">
            <a:off x="5688000" y="3176640"/>
            <a:ext cx="324000" cy="17636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6264360" y="2744640"/>
            <a:ext cx="0" cy="212436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68360" y="873000"/>
            <a:ext cx="8388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563c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站在地面上准备用一个滑轮组提升重物，请在图中画出绕线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5148360" y="2097000"/>
            <a:ext cx="1547640" cy="4176720"/>
            <a:chOff x="5148360" y="2097000"/>
            <a:chExt cx="1547640" cy="4176720"/>
          </a:xfrm>
        </p:grpSpPr>
        <p:grpSp>
          <p:nvGrpSpPr>
            <p:cNvPr id="251" name="Group 7"/>
            <p:cNvGrpSpPr/>
            <p:nvPr/>
          </p:nvGrpSpPr>
          <p:grpSpPr>
            <a:xfrm>
              <a:off x="5575320" y="2097000"/>
              <a:ext cx="745920" cy="1158480"/>
              <a:chOff x="5575320" y="2097000"/>
              <a:chExt cx="745920" cy="1158480"/>
            </a:xfrm>
          </p:grpSpPr>
          <p:grpSp>
            <p:nvGrpSpPr>
              <p:cNvPr id="252" name="Group 8"/>
              <p:cNvGrpSpPr/>
              <p:nvPr/>
            </p:nvGrpSpPr>
            <p:grpSpPr>
              <a:xfrm>
                <a:off x="5681880" y="2167920"/>
                <a:ext cx="603360" cy="1087560"/>
                <a:chOff x="5681880" y="2167920"/>
                <a:chExt cx="603360" cy="1087560"/>
              </a:xfrm>
            </p:grpSpPr>
            <p:grpSp>
              <p:nvGrpSpPr>
                <p:cNvPr id="253" name="Group 9"/>
                <p:cNvGrpSpPr/>
                <p:nvPr/>
              </p:nvGrpSpPr>
              <p:grpSpPr>
                <a:xfrm>
                  <a:off x="5681880" y="2428560"/>
                  <a:ext cx="603360" cy="553320"/>
                  <a:chOff x="5681880" y="2428560"/>
                  <a:chExt cx="603360" cy="553320"/>
                </a:xfrm>
              </p:grpSpPr>
              <p:sp>
                <p:nvSpPr>
                  <p:cNvPr id="254" name="Oval 10"/>
                  <p:cNvSpPr/>
                  <p:nvPr/>
                </p:nvSpPr>
                <p:spPr>
                  <a:xfrm>
                    <a:off x="5681880" y="2428560"/>
                    <a:ext cx="603360" cy="55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f8f8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Oval 11"/>
                  <p:cNvSpPr/>
                  <p:nvPr/>
                </p:nvSpPr>
                <p:spPr>
                  <a:xfrm>
                    <a:off x="5765400" y="2505240"/>
                    <a:ext cx="435600" cy="39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Oval 12"/>
                  <p:cNvSpPr/>
                  <p:nvPr/>
                </p:nvSpPr>
                <p:spPr>
                  <a:xfrm>
                    <a:off x="5849280" y="2582280"/>
                    <a:ext cx="268200" cy="24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96969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Oval 13"/>
                  <p:cNvSpPr/>
                  <p:nvPr/>
                </p:nvSpPr>
                <p:spPr>
                  <a:xfrm>
                    <a:off x="5933160" y="2658960"/>
                    <a:ext cx="100440" cy="921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Group 14"/>
                <p:cNvGrpSpPr/>
                <p:nvPr/>
              </p:nvGrpSpPr>
              <p:grpSpPr>
                <a:xfrm>
                  <a:off x="5879520" y="2167920"/>
                  <a:ext cx="203760" cy="1087560"/>
                  <a:chOff x="5879520" y="2167920"/>
                  <a:chExt cx="203760" cy="1087560"/>
                </a:xfrm>
              </p:grpSpPr>
              <p:sp>
                <p:nvSpPr>
                  <p:cNvPr id="259" name="Freeform 15"/>
                  <p:cNvSpPr/>
                  <p:nvPr/>
                </p:nvSpPr>
                <p:spPr>
                  <a:xfrm>
                    <a:off x="5936760" y="311868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0" name="Group 16"/>
                  <p:cNvGrpSpPr/>
                  <p:nvPr/>
                </p:nvGrpSpPr>
                <p:grpSpPr>
                  <a:xfrm>
                    <a:off x="5879520" y="2286000"/>
                    <a:ext cx="203760" cy="839880"/>
                    <a:chOff x="5879520" y="2286000"/>
                    <a:chExt cx="203760" cy="839880"/>
                  </a:xfrm>
                </p:grpSpPr>
                <p:sp>
                  <p:nvSpPr>
                    <p:cNvPr id="261" name="AutoShape 17"/>
                    <p:cNvSpPr/>
                    <p:nvPr/>
                  </p:nvSpPr>
                  <p:spPr>
                    <a:xfrm>
                      <a:off x="5879520" y="270396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8"/>
                    <p:cNvSpPr/>
                    <p:nvPr/>
                  </p:nvSpPr>
                  <p:spPr>
                    <a:xfrm flipV="1">
                      <a:off x="5879520" y="2286000"/>
                      <a:ext cx="20376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7515" y="21600"/>
                          </a:lnTo>
                          <a:lnTo>
                            <a:pt x="14085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3" name="Oval 19"/>
                  <p:cNvSpPr/>
                  <p:nvPr/>
                </p:nvSpPr>
                <p:spPr>
                  <a:xfrm>
                    <a:off x="5950800" y="267408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20"/>
                  <p:cNvSpPr/>
                  <p:nvPr/>
                </p:nvSpPr>
                <p:spPr>
                  <a:xfrm>
                    <a:off x="5942880" y="30474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21"/>
                  <p:cNvSpPr/>
                  <p:nvPr/>
                </p:nvSpPr>
                <p:spPr>
                  <a:xfrm flipH="1" flipV="1">
                    <a:off x="5905080" y="2167920"/>
                    <a:ext cx="120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0" h="2594">
                        <a:moveTo>
                          <a:pt x="472" y="15"/>
                        </a:moveTo>
                        <a:cubicBezTo>
                          <a:pt x="472" y="107"/>
                          <a:pt x="477" y="387"/>
                          <a:pt x="472" y="552"/>
                        </a:cubicBezTo>
                        <a:cubicBezTo>
                          <a:pt x="467" y="717"/>
                          <a:pt x="480" y="887"/>
                          <a:pt x="442" y="1005"/>
                        </a:cubicBezTo>
                        <a:cubicBezTo>
                          <a:pt x="404" y="1123"/>
                          <a:pt x="302" y="1180"/>
                          <a:pt x="247" y="1260"/>
                        </a:cubicBezTo>
                        <a:cubicBezTo>
                          <a:pt x="192" y="1340"/>
                          <a:pt x="152" y="1398"/>
                          <a:pt x="112" y="1488"/>
                        </a:cubicBezTo>
                        <a:cubicBezTo>
                          <a:pt x="72" y="1578"/>
                          <a:pt x="14" y="1706"/>
                          <a:pt x="7" y="1800"/>
                        </a:cubicBezTo>
                        <a:cubicBezTo>
                          <a:pt x="0" y="1894"/>
                          <a:pt x="25" y="1968"/>
                          <a:pt x="67" y="2055"/>
                        </a:cubicBezTo>
                        <a:cubicBezTo>
                          <a:pt x="109" y="2142"/>
                          <a:pt x="165" y="2245"/>
                          <a:pt x="262" y="2325"/>
                        </a:cubicBezTo>
                        <a:cubicBezTo>
                          <a:pt x="359" y="2405"/>
                          <a:pt x="515" y="2498"/>
                          <a:pt x="652" y="2535"/>
                        </a:cubicBezTo>
                        <a:cubicBezTo>
                          <a:pt x="789" y="2572"/>
                          <a:pt x="937" y="2594"/>
                          <a:pt x="1087" y="2550"/>
                        </a:cubicBezTo>
                        <a:cubicBezTo>
                          <a:pt x="1237" y="2506"/>
                          <a:pt x="1440" y="2366"/>
                          <a:pt x="1552" y="2268"/>
                        </a:cubicBezTo>
                        <a:cubicBezTo>
                          <a:pt x="1664" y="2170"/>
                          <a:pt x="1702" y="2069"/>
                          <a:pt x="1762" y="1965"/>
                        </a:cubicBezTo>
                        <a:cubicBezTo>
                          <a:pt x="1822" y="1861"/>
                          <a:pt x="1872" y="1759"/>
                          <a:pt x="1912" y="1644"/>
                        </a:cubicBezTo>
                        <a:cubicBezTo>
                          <a:pt x="1952" y="1529"/>
                          <a:pt x="2020" y="1309"/>
                          <a:pt x="2002" y="1275"/>
                        </a:cubicBezTo>
                        <a:cubicBezTo>
                          <a:pt x="1984" y="1241"/>
                          <a:pt x="1874" y="1355"/>
                          <a:pt x="1807" y="1440"/>
                        </a:cubicBezTo>
                        <a:cubicBezTo>
                          <a:pt x="1740" y="1525"/>
                          <a:pt x="1669" y="1690"/>
                          <a:pt x="1597" y="1785"/>
                        </a:cubicBezTo>
                        <a:cubicBezTo>
                          <a:pt x="1525" y="1880"/>
                          <a:pt x="1442" y="1953"/>
                          <a:pt x="1372" y="2010"/>
                        </a:cubicBezTo>
                        <a:cubicBezTo>
                          <a:pt x="1302" y="2067"/>
                          <a:pt x="1257" y="2113"/>
                          <a:pt x="1177" y="2130"/>
                        </a:cubicBezTo>
                        <a:cubicBezTo>
                          <a:pt x="1097" y="2147"/>
                          <a:pt x="982" y="2147"/>
                          <a:pt x="892" y="2115"/>
                        </a:cubicBezTo>
                        <a:cubicBezTo>
                          <a:pt x="802" y="2083"/>
                          <a:pt x="677" y="2022"/>
                          <a:pt x="637" y="1935"/>
                        </a:cubicBezTo>
                        <a:cubicBezTo>
                          <a:pt x="597" y="1848"/>
                          <a:pt x="612" y="1702"/>
                          <a:pt x="652" y="1590"/>
                        </a:cubicBezTo>
                        <a:cubicBezTo>
                          <a:pt x="692" y="1478"/>
                          <a:pt x="817" y="1355"/>
                          <a:pt x="877" y="1260"/>
                        </a:cubicBezTo>
                        <a:cubicBezTo>
                          <a:pt x="937" y="1165"/>
                          <a:pt x="990" y="1112"/>
                          <a:pt x="1012" y="1020"/>
                        </a:cubicBezTo>
                        <a:cubicBezTo>
                          <a:pt x="1034" y="928"/>
                          <a:pt x="1012" y="786"/>
                          <a:pt x="1012" y="708"/>
                        </a:cubicBezTo>
                        <a:cubicBezTo>
                          <a:pt x="1012" y="630"/>
                          <a:pt x="1012" y="670"/>
                          <a:pt x="1012" y="552"/>
                        </a:cubicBezTo>
                        <a:cubicBezTo>
                          <a:pt x="1012" y="434"/>
                          <a:pt x="1012" y="115"/>
                          <a:pt x="1012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22"/>
                  <p:cNvSpPr/>
                  <p:nvPr/>
                </p:nvSpPr>
                <p:spPr>
                  <a:xfrm>
                    <a:off x="5943240" y="2293200"/>
                    <a:ext cx="70920" cy="6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Group 23"/>
              <p:cNvGrpSpPr/>
              <p:nvPr/>
            </p:nvGrpSpPr>
            <p:grpSpPr>
              <a:xfrm>
                <a:off x="5575320" y="2097000"/>
                <a:ext cx="745920" cy="105120"/>
                <a:chOff x="5575320" y="2097000"/>
                <a:chExt cx="745920" cy="105120"/>
              </a:xfrm>
            </p:grpSpPr>
            <p:sp>
              <p:nvSpPr>
                <p:cNvPr id="268" name="Rectangle 24"/>
                <p:cNvSpPr/>
                <p:nvPr/>
              </p:nvSpPr>
              <p:spPr>
                <a:xfrm>
                  <a:off x="5575320" y="2097000"/>
                  <a:ext cx="705960" cy="105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25"/>
                <p:cNvSpPr/>
                <p:nvPr/>
              </p:nvSpPr>
              <p:spPr>
                <a:xfrm>
                  <a:off x="5575320" y="2202120"/>
                  <a:ext cx="74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6"/>
            <p:cNvGrpSpPr/>
            <p:nvPr/>
          </p:nvGrpSpPr>
          <p:grpSpPr>
            <a:xfrm>
              <a:off x="5148360" y="4341960"/>
              <a:ext cx="1547640" cy="1931760"/>
              <a:chOff x="5148360" y="4341960"/>
              <a:chExt cx="1547640" cy="1931760"/>
            </a:xfrm>
          </p:grpSpPr>
          <p:grpSp>
            <p:nvGrpSpPr>
              <p:cNvPr id="271" name="Group 27"/>
              <p:cNvGrpSpPr/>
              <p:nvPr/>
            </p:nvGrpSpPr>
            <p:grpSpPr>
              <a:xfrm>
                <a:off x="5148360" y="6132600"/>
                <a:ext cx="1547640" cy="141120"/>
                <a:chOff x="5148360" y="6132600"/>
                <a:chExt cx="1547640" cy="141120"/>
              </a:xfrm>
            </p:grpSpPr>
            <p:sp>
              <p:nvSpPr>
                <p:cNvPr id="272" name="Rectangle 28"/>
                <p:cNvSpPr/>
                <p:nvPr/>
              </p:nvSpPr>
              <p:spPr>
                <a:xfrm flipV="1">
                  <a:off x="5148360" y="6132600"/>
                  <a:ext cx="1547640" cy="141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9"/>
                <p:cNvSpPr/>
                <p:nvPr/>
              </p:nvSpPr>
              <p:spPr>
                <a:xfrm>
                  <a:off x="5148360" y="6132600"/>
                  <a:ext cx="152856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30"/>
              <p:cNvGrpSpPr/>
              <p:nvPr/>
            </p:nvGrpSpPr>
            <p:grpSpPr>
              <a:xfrm>
                <a:off x="5681520" y="4341960"/>
                <a:ext cx="641160" cy="1791360"/>
                <a:chOff x="5681520" y="4341960"/>
                <a:chExt cx="641160" cy="1791360"/>
              </a:xfrm>
            </p:grpSpPr>
            <p:grpSp>
              <p:nvGrpSpPr>
                <p:cNvPr id="275" name="Group 31"/>
                <p:cNvGrpSpPr/>
                <p:nvPr/>
              </p:nvGrpSpPr>
              <p:grpSpPr>
                <a:xfrm>
                  <a:off x="5681520" y="4341960"/>
                  <a:ext cx="603720" cy="1087920"/>
                  <a:chOff x="5681520" y="4341960"/>
                  <a:chExt cx="603720" cy="1087920"/>
                </a:xfrm>
              </p:grpSpPr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5681520" y="4602600"/>
                    <a:ext cx="603720" cy="553320"/>
                    <a:chOff x="5681520" y="4602600"/>
                    <a:chExt cx="603720" cy="553320"/>
                  </a:xfrm>
                </p:grpSpPr>
                <p:sp>
                  <p:nvSpPr>
                    <p:cNvPr id="277" name="Oval 33"/>
                    <p:cNvSpPr/>
                    <p:nvPr/>
                  </p:nvSpPr>
                  <p:spPr>
                    <a:xfrm>
                      <a:off x="5681520" y="4602600"/>
                      <a:ext cx="603720" cy="55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f8f8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34"/>
                    <p:cNvSpPr/>
                    <p:nvPr/>
                  </p:nvSpPr>
                  <p:spPr>
                    <a:xfrm>
                      <a:off x="5765400" y="4679280"/>
                      <a:ext cx="435960" cy="399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Oval 35"/>
                    <p:cNvSpPr/>
                    <p:nvPr/>
                  </p:nvSpPr>
                  <p:spPr>
                    <a:xfrm>
                      <a:off x="5849280" y="4756320"/>
                      <a:ext cx="268200" cy="245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96969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Oval 36"/>
                    <p:cNvSpPr/>
                    <p:nvPr/>
                  </p:nvSpPr>
                  <p:spPr>
                    <a:xfrm>
                      <a:off x="5933160" y="4833000"/>
                      <a:ext cx="100440" cy="921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37"/>
                  <p:cNvGrpSpPr/>
                  <p:nvPr/>
                </p:nvGrpSpPr>
                <p:grpSpPr>
                  <a:xfrm>
                    <a:off x="5879520" y="4341960"/>
                    <a:ext cx="203760" cy="1087920"/>
                    <a:chOff x="5879520" y="4341960"/>
                    <a:chExt cx="203760" cy="1087920"/>
                  </a:xfrm>
                </p:grpSpPr>
                <p:sp>
                  <p:nvSpPr>
                    <p:cNvPr id="282" name="Freeform 38"/>
                    <p:cNvSpPr/>
                    <p:nvPr/>
                  </p:nvSpPr>
                  <p:spPr>
                    <a:xfrm>
                      <a:off x="5936760" y="529308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3" name="Group 39"/>
                    <p:cNvGrpSpPr/>
                    <p:nvPr/>
                  </p:nvGrpSpPr>
                  <p:grpSpPr>
                    <a:xfrm>
                      <a:off x="5879520" y="4460040"/>
                      <a:ext cx="203760" cy="840240"/>
                      <a:chOff x="5879520" y="4460040"/>
                      <a:chExt cx="203760" cy="840240"/>
                    </a:xfrm>
                  </p:grpSpPr>
                  <p:sp>
                    <p:nvSpPr>
                      <p:cNvPr id="284" name="AutoShape 40"/>
                      <p:cNvSpPr/>
                      <p:nvPr/>
                    </p:nvSpPr>
                    <p:spPr>
                      <a:xfrm>
                        <a:off x="5879520" y="487836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AutoShape 41"/>
                      <p:cNvSpPr/>
                      <p:nvPr/>
                    </p:nvSpPr>
                    <p:spPr>
                      <a:xfrm flipV="1">
                        <a:off x="5879520" y="4460040"/>
                        <a:ext cx="203760" cy="42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7515" y="21600"/>
                            </a:lnTo>
                            <a:lnTo>
                              <a:pt x="14085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000000"/>
                          </a:gs>
                          <a:gs pos="50000">
                            <a:srgbClr val="969696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6" name="Oval 42"/>
                    <p:cNvSpPr/>
                    <p:nvPr/>
                  </p:nvSpPr>
                  <p:spPr>
                    <a:xfrm>
                      <a:off x="5950800" y="484848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Oval 43"/>
                    <p:cNvSpPr/>
                    <p:nvPr/>
                  </p:nvSpPr>
                  <p:spPr>
                    <a:xfrm>
                      <a:off x="5942880" y="52218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44"/>
                    <p:cNvSpPr/>
                    <p:nvPr/>
                  </p:nvSpPr>
                  <p:spPr>
                    <a:xfrm flipH="1" flipV="1">
                      <a:off x="5905080" y="4341960"/>
                      <a:ext cx="1202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0" h="2594">
                          <a:moveTo>
                            <a:pt x="472" y="15"/>
                          </a:moveTo>
                          <a:cubicBezTo>
                            <a:pt x="472" y="107"/>
                            <a:pt x="477" y="387"/>
                            <a:pt x="472" y="552"/>
                          </a:cubicBezTo>
                          <a:cubicBezTo>
                            <a:pt x="467" y="717"/>
                            <a:pt x="480" y="887"/>
                            <a:pt x="442" y="1005"/>
                          </a:cubicBezTo>
                          <a:cubicBezTo>
                            <a:pt x="404" y="1123"/>
                            <a:pt x="302" y="1180"/>
                            <a:pt x="247" y="1260"/>
                          </a:cubicBezTo>
                          <a:cubicBezTo>
                            <a:pt x="192" y="1340"/>
                            <a:pt x="152" y="1398"/>
                            <a:pt x="112" y="1488"/>
                          </a:cubicBezTo>
                          <a:cubicBezTo>
                            <a:pt x="72" y="1578"/>
                            <a:pt x="14" y="1706"/>
                            <a:pt x="7" y="1800"/>
                          </a:cubicBezTo>
                          <a:cubicBezTo>
                            <a:pt x="0" y="1894"/>
                            <a:pt x="25" y="1968"/>
                            <a:pt x="67" y="2055"/>
                          </a:cubicBezTo>
                          <a:cubicBezTo>
                            <a:pt x="109" y="2142"/>
                            <a:pt x="165" y="2245"/>
                            <a:pt x="262" y="2325"/>
                          </a:cubicBezTo>
                          <a:cubicBezTo>
                            <a:pt x="359" y="2405"/>
                            <a:pt x="515" y="2498"/>
                            <a:pt x="652" y="2535"/>
                          </a:cubicBezTo>
                          <a:cubicBezTo>
                            <a:pt x="789" y="2572"/>
                            <a:pt x="937" y="2594"/>
                            <a:pt x="1087" y="2550"/>
                          </a:cubicBezTo>
                          <a:cubicBezTo>
                            <a:pt x="1237" y="2506"/>
                            <a:pt x="1440" y="2366"/>
                            <a:pt x="1552" y="2268"/>
                          </a:cubicBezTo>
                          <a:cubicBezTo>
                            <a:pt x="1664" y="2170"/>
                            <a:pt x="1702" y="2069"/>
                            <a:pt x="1762" y="1965"/>
                          </a:cubicBezTo>
                          <a:cubicBezTo>
                            <a:pt x="1822" y="1861"/>
                            <a:pt x="1872" y="1759"/>
                            <a:pt x="1912" y="1644"/>
                          </a:cubicBezTo>
                          <a:cubicBezTo>
                            <a:pt x="1952" y="1529"/>
                            <a:pt x="2020" y="1309"/>
                            <a:pt x="2002" y="1275"/>
                          </a:cubicBezTo>
                          <a:cubicBezTo>
                            <a:pt x="1984" y="1241"/>
                            <a:pt x="1874" y="1355"/>
                            <a:pt x="1807" y="1440"/>
                          </a:cubicBezTo>
                          <a:cubicBezTo>
                            <a:pt x="1740" y="1525"/>
                            <a:pt x="1669" y="1690"/>
                            <a:pt x="1597" y="1785"/>
                          </a:cubicBezTo>
                          <a:cubicBezTo>
                            <a:pt x="1525" y="1880"/>
                            <a:pt x="1442" y="1953"/>
                            <a:pt x="1372" y="2010"/>
                          </a:cubicBezTo>
                          <a:cubicBezTo>
                            <a:pt x="1302" y="2067"/>
                            <a:pt x="1257" y="2113"/>
                            <a:pt x="1177" y="2130"/>
                          </a:cubicBezTo>
                          <a:cubicBezTo>
                            <a:pt x="1097" y="2147"/>
                            <a:pt x="982" y="2147"/>
                            <a:pt x="892" y="2115"/>
                          </a:cubicBezTo>
                          <a:cubicBezTo>
                            <a:pt x="802" y="2083"/>
                            <a:pt x="677" y="2022"/>
                            <a:pt x="637" y="1935"/>
                          </a:cubicBezTo>
                          <a:cubicBezTo>
                            <a:pt x="597" y="1848"/>
                            <a:pt x="612" y="1702"/>
                            <a:pt x="652" y="1590"/>
                          </a:cubicBezTo>
                          <a:cubicBezTo>
                            <a:pt x="692" y="1478"/>
                            <a:pt x="817" y="1355"/>
                            <a:pt x="877" y="1260"/>
                          </a:cubicBezTo>
                          <a:cubicBezTo>
                            <a:pt x="937" y="1165"/>
                            <a:pt x="990" y="1112"/>
                            <a:pt x="1012" y="1020"/>
                          </a:cubicBezTo>
                          <a:cubicBezTo>
                            <a:pt x="1034" y="928"/>
                            <a:pt x="1012" y="786"/>
                            <a:pt x="1012" y="708"/>
                          </a:cubicBezTo>
                          <a:cubicBezTo>
                            <a:pt x="1012" y="630"/>
                            <a:pt x="1012" y="670"/>
                            <a:pt x="1012" y="552"/>
                          </a:cubicBezTo>
                          <a:cubicBezTo>
                            <a:pt x="1012" y="434"/>
                            <a:pt x="1012" y="115"/>
                            <a:pt x="1012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45"/>
                    <p:cNvSpPr/>
                    <p:nvPr/>
                  </p:nvSpPr>
                  <p:spPr>
                    <a:xfrm>
                      <a:off x="5943240" y="4467600"/>
                      <a:ext cx="70920" cy="66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0" name="Group 46"/>
                <p:cNvGrpSpPr/>
                <p:nvPr/>
              </p:nvGrpSpPr>
              <p:grpSpPr>
                <a:xfrm>
                  <a:off x="5717520" y="5431320"/>
                  <a:ext cx="605160" cy="702000"/>
                  <a:chOff x="5717520" y="5431320"/>
                  <a:chExt cx="605160" cy="702000"/>
                </a:xfrm>
              </p:grpSpPr>
              <p:sp>
                <p:nvSpPr>
                  <p:cNvPr id="291" name="Rectangle 47"/>
                  <p:cNvSpPr/>
                  <p:nvPr/>
                </p:nvSpPr>
                <p:spPr>
                  <a:xfrm>
                    <a:off x="5717520" y="5607720"/>
                    <a:ext cx="605160" cy="525600"/>
                  </a:xfrm>
                  <a:prstGeom prst="rect">
                    <a:avLst/>
                  </a:prstGeom>
                  <a:solidFill>
                    <a:srgbClr val="cfcfcf"/>
                  </a:solidFill>
                  <a:ln w="28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48"/>
                  <p:cNvSpPr/>
                  <p:nvPr/>
                </p:nvSpPr>
                <p:spPr>
                  <a:xfrm>
                    <a:off x="6003000" y="5431320"/>
                    <a:ext cx="0" cy="17640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3" name="Line 49"/>
          <p:cNvSpPr/>
          <p:nvPr/>
        </p:nvSpPr>
        <p:spPr>
          <a:xfrm flipH="1">
            <a:off x="4859280" y="2708280"/>
            <a:ext cx="828720" cy="2449440"/>
          </a:xfrm>
          <a:prstGeom prst="line">
            <a:avLst/>
          </a:prstGeom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49:1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